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27.wmf" ContentType="image/x-wmf"/>
  <Override PartName="/ppt/media/image25.png" ContentType="image/png"/>
  <Override PartName="/ppt/media/image42.jpeg" ContentType="image/jpe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8.png" ContentType="image/png"/>
  <Override PartName="/ppt/media/image5.png" ContentType="image/png"/>
  <Override PartName="/ppt/media/image41.png" ContentType="image/png"/>
  <Override PartName="/ppt/media/image30.png" ContentType="image/png"/>
  <Override PartName="/ppt/media/image37.jpeg" ContentType="image/jpeg"/>
  <Override PartName="/ppt/media/image13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40.png" ContentType="image/png"/>
  <Override PartName="/ppt/media/image31.png" ContentType="image/png"/>
  <Override PartName="/ppt/media/image6.png" ContentType="image/png"/>
  <Override PartName="/ppt/media/image29.png" ContentType="image/png"/>
  <Override PartName="/ppt/media/image43.png" ContentType="image/png"/>
  <Override PartName="/ppt/media/image32.png" ContentType="image/png"/>
  <Override PartName="/ppt/media/image44.png" ContentType="image/png"/>
  <Override PartName="/ppt/media/image45.jpeg" ContentType="image/jpeg"/>
  <Override PartName="/ppt/media/image46.wmf" ContentType="image/x-wmf"/>
  <Override PartName="/ppt/media/image3.png" ContentType="image/png"/>
  <Override PartName="/ppt/media/image26.png" ContentType="image/png"/>
  <Override PartName="/ppt/media/image38.png" ContentType="image/png"/>
  <Override PartName="/ppt/media/image8.png" ContentType="image/png"/>
  <Override PartName="/ppt/media/image14.jpeg" ContentType="image/jpeg"/>
  <Override PartName="/ppt/media/image49.png" ContentType="image/png"/>
  <Override PartName="/ppt/media/image12.png" ContentType="image/png"/>
  <Override PartName="/ppt/media/image10.png" ContentType="image/png"/>
  <Override PartName="/ppt/media/image1.jpeg" ContentType="image/jpeg"/>
  <Override PartName="/ppt/media/image35.jpeg" ContentType="image/jpeg"/>
  <Override PartName="/ppt/media/image47.png" ContentType="image/png"/>
  <Override PartName="/ppt/media/image7.png" ContentType="image/png"/>
  <Override PartName="/ppt/media/image34.jpeg" ContentType="image/jpeg"/>
  <Override PartName="/ppt/media/image48.png" ContentType="image/png"/>
  <Override PartName="/ppt/media/image11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31.xml" ContentType="application/vnd.openxmlformats-officedocument.presentationml.slide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93AD-9CEC-48E7-BEF0-EEBF3155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8571-4AF0-4328-A2E8-9B3ADD30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BE9D-AD0B-4371-A6B2-BC32D3072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26A0-F015-428F-8699-872162DDC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0A3A8-C2C6-4801-9F8E-B28AA70A0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37C8-D584-4721-9DB8-8EAED32EA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8C76-C256-4322-8FBF-FC0564AE4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8F55D-6B1E-4BF4-BA73-5FCC5D75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89DC-B249-4511-BAD6-5AA306EC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3CB6A-A346-45E7-9BFE-8674922D7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F9A-B4AF-404C-8534-A3D2853E1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41640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147720" y="138600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44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41640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147720" y="3981240"/>
            <a:ext cx="2600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2C94A-46E6-419C-8211-DFEEA27ED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17120" y="320760"/>
            <a:ext cx="8153640" cy="353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24720" y="398124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24720" y="1386000"/>
            <a:ext cx="394164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440" y="3981240"/>
            <a:ext cx="8077320" cy="23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2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3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4" marL="609480" indent="-609480">
              <a:spcBef>
                <a:spcPts val="7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5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6" marL="609480" indent="-609480">
              <a:spcBef>
                <a:spcPts val="799"/>
              </a:spcBef>
              <a:buClr>
                <a:srgbClr val="000099"/>
              </a:buClr>
              <a:buFont typeface="Comic Sans M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" name=""/>
          <p:cNvSpPr/>
          <p:nvPr/>
        </p:nvSpPr>
        <p:spPr>
          <a:xfrm>
            <a:off x="609480" y="6541920"/>
            <a:ext cx="4418280" cy="20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Comic Sans MS"/>
              </a:rPr>
              <a:t>ISS CERN 05 J.E Campagne LAL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929280" y="6486480"/>
            <a:ext cx="20624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673B8-2692-41EC-9011-B28BFE2BDBDF}" type="slidenum">
              <a:rPr b="0" lang="en-US" sz="1400" spc="-1" strike="noStrike">
                <a:solidFill>
                  <a:srgbClr val="003399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809880" y="31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380880" y="304920"/>
            <a:ext cx="70866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676520" y="563400"/>
            <a:ext cx="6095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rcRect l="31008" t="3125" r="60141" b="3125"/>
          <a:stretch/>
        </p:blipFill>
        <p:spPr>
          <a:xfrm>
            <a:off x="0" y="0"/>
            <a:ext cx="59688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6095160" y="6364440"/>
            <a:ext cx="3356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ISS-CERN 22-24/9/05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7072200" y="0"/>
            <a:ext cx="2071800" cy="12096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titl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99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003399"/>
              </a:buClr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003399"/>
              </a:buClr>
              <a:buFont typeface="Comic Sans MS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000099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DDC5E-001E-4B2D-9F60-38F90818FC33}" type="slidenum"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8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PL-Fréju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33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Some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éjus site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French Photodetector R&amp;D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27" name=""/>
          <p:cNvSpPr/>
          <p:nvPr/>
        </p:nvSpPr>
        <p:spPr>
          <a:xfrm>
            <a:off x="6647040" y="123840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J.E Campagne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-398880" y="6334200"/>
            <a:ext cx="392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See also talk at Acc. W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970200" y="5567400"/>
            <a:ext cx="76784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hanks: A. Cazes, M. Mezzetto, L. Mosca,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	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and IPNO &amp; LAL engeeners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5" name=""/>
          <p:cNvGrpSpPr/>
          <p:nvPr/>
        </p:nvGrpSpPr>
        <p:grpSpPr>
          <a:xfrm>
            <a:off x="299880" y="1214280"/>
            <a:ext cx="4572000" cy="4486320"/>
            <a:chOff x="299880" y="1214280"/>
            <a:chExt cx="4572000" cy="4486320"/>
          </a:xfrm>
        </p:grpSpPr>
        <p:pic>
          <p:nvPicPr>
            <p:cNvPr id="196" name="" descr=""/>
            <p:cNvPicPr/>
            <p:nvPr/>
          </p:nvPicPr>
          <p:blipFill>
            <a:blip r:embed="rId1"/>
            <a:stretch/>
          </p:blipFill>
          <p:spPr>
            <a:xfrm>
              <a:off x="299880" y="1214280"/>
              <a:ext cx="4572000" cy="4486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"/>
            <p:cNvSpPr/>
            <p:nvPr/>
          </p:nvSpPr>
          <p:spPr>
            <a:xfrm>
              <a:off x="508680" y="1874880"/>
              <a:ext cx="1911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80240" y="4348080"/>
              <a:ext cx="2179800" cy="69984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ffect of the systematic (sig. &amp; bkg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00" name=""/>
          <p:cNvSpPr/>
          <p:nvPr/>
        </p:nvSpPr>
        <p:spPr>
          <a:xfrm>
            <a:off x="5162400" y="5095800"/>
            <a:ext cx="3722760" cy="13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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12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GB" sz="12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0.82, sin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=0,4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7.9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=2.4 10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12 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&amp; </a:t>
            </a:r>
            <a:r>
              <a:rPr b="1" lang="en-GB" sz="12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2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2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use SPL disappearance channel and spectrum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403960" y="2127240"/>
            <a:ext cx="3160440" cy="20937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5400" indent="-9540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uch more dramatic than ambiguities at small </a:t>
            </a: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move ambiguities with ATM </a:t>
            </a:r>
            <a:r>
              <a:rPr b="1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03" name=""/>
          <p:cNvGrpSpPr/>
          <p:nvPr/>
        </p:nvGrpSpPr>
        <p:grpSpPr>
          <a:xfrm>
            <a:off x="352440" y="1486080"/>
            <a:ext cx="9000360" cy="3918240"/>
            <a:chOff x="352440" y="1486080"/>
            <a:chExt cx="9000360" cy="3918240"/>
          </a:xfrm>
        </p:grpSpPr>
        <p:pic>
          <p:nvPicPr>
            <p:cNvPr id="204" name="" descr=""/>
            <p:cNvPicPr/>
            <p:nvPr/>
          </p:nvPicPr>
          <p:blipFill>
            <a:blip r:embed="rId1"/>
            <a:stretch/>
          </p:blipFill>
          <p:spPr>
            <a:xfrm>
              <a:off x="352440" y="1486080"/>
              <a:ext cx="8439120" cy="38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7380000" y="50054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1677960" y="5649840"/>
            <a:ext cx="341280" cy="273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66080" y="5592600"/>
            <a:ext cx="668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Comic Sans MS"/>
              </a:rPr>
              <a:t>Contour after ATM combination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154160" y="5942160"/>
            <a:ext cx="374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Symbol"/>
                <a:ea typeface="Symbol"/>
              </a:rPr>
              <a:t></a:t>
            </a:r>
            <a:r>
              <a:rPr b="0" lang="fr-FR" sz="3200" spc="-1" strike="noStrike">
                <a:solidFill>
                  <a:srgbClr val="000099"/>
                </a:solidFill>
                <a:latin typeface="Comic Sans MS"/>
              </a:rPr>
              <a:t>: true valu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245200" y="1155600"/>
            <a:ext cx="4052880" cy="3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Favorable case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6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-263880" y="4927680"/>
            <a:ext cx="217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10yr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481800" y="2100240"/>
            <a:ext cx="2116080" cy="76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T2HK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440k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réjus site possibil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123920" y="977760"/>
            <a:ext cx="7875000" cy="5602680"/>
            <a:chOff x="1123920" y="977760"/>
            <a:chExt cx="7875000" cy="5602680"/>
          </a:xfrm>
        </p:grpSpPr>
        <p:grpSp>
          <p:nvGrpSpPr>
            <p:cNvPr id="214" name=""/>
            <p:cNvGrpSpPr/>
            <p:nvPr/>
          </p:nvGrpSpPr>
          <p:grpSpPr>
            <a:xfrm>
              <a:off x="1123920" y="977760"/>
              <a:ext cx="7340760" cy="5538960"/>
              <a:chOff x="1123920" y="977760"/>
              <a:chExt cx="7340760" cy="553896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1123920" y="977760"/>
                <a:ext cx="7340760" cy="5538960"/>
                <a:chOff x="1123920" y="977760"/>
                <a:chExt cx="7340760" cy="5538960"/>
              </a:xfrm>
            </p:grpSpPr>
            <p:pic>
              <p:nvPicPr>
                <p:cNvPr id="216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123920" y="977760"/>
                  <a:ext cx="7340760" cy="553896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217" name=""/>
                <p:cNvSpPr/>
                <p:nvPr/>
              </p:nvSpPr>
              <p:spPr>
                <a:xfrm>
                  <a:off x="3997440" y="254628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5884920" y="264780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129360" y="2535120"/>
                  <a:ext cx="245880" cy="219240"/>
                </a:xfrm>
                <a:prstGeom prst="diamond">
                  <a:avLst/>
                </a:prstGeom>
                <a:solidFill>
                  <a:srgbClr val="ff0000"/>
                </a:solidFill>
                <a:ln w="93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3227760" y="2151000"/>
                <a:ext cx="167544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K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088160" y="2684520"/>
                <a:ext cx="2457360" cy="3373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Henderson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725800" y="2106720"/>
                <a:ext cx="2727000" cy="398880"/>
              </a:xfrm>
              <a:prstGeom prst="rect">
                <a:avLst/>
              </a:prstGeom>
              <a:solidFill>
                <a:srgbClr val="ffff99"/>
              </a:solidFill>
              <a:ln w="3816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New Fréju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7166520" y="6181560"/>
              <a:ext cx="18324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L.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ew Fréjus Cavern (MEMPHYS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11760" y="1154160"/>
            <a:ext cx="3702960" cy="5016600"/>
            <a:chOff x="311760" y="1154160"/>
            <a:chExt cx="3702960" cy="501660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rcRect l="26492" t="0" r="32464" b="3039"/>
            <a:stretch/>
          </p:blipFill>
          <p:spPr>
            <a:xfrm>
              <a:off x="871560" y="1154160"/>
              <a:ext cx="3143160" cy="501660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227" name=""/>
            <p:cNvSpPr/>
            <p:nvPr/>
          </p:nvSpPr>
          <p:spPr>
            <a:xfrm>
              <a:off x="311760" y="5324400"/>
              <a:ext cx="278496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Fréjus*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714760" y="567684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1194480" y="2568600"/>
              <a:ext cx="2445120" cy="58140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459080" y="289260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608120" y="312588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946440" y="405756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233" name=""/>
          <p:cNvSpPr/>
          <p:nvPr/>
        </p:nvSpPr>
        <p:spPr>
          <a:xfrm>
            <a:off x="198360" y="6119640"/>
            <a:ext cx="290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*: Modan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4111560" y="4630680"/>
            <a:ext cx="5032440" cy="174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ased on well experienced civil engineer studies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First cost and time estimate will come soon for a dedicated operation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95400" indent="-954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Beyond that  a Design Study is needed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22960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6954840" y="888840"/>
            <a:ext cx="1555920" cy="2825640"/>
            <a:chOff x="6954840" y="888840"/>
            <a:chExt cx="1555920" cy="2825640"/>
          </a:xfrm>
        </p:grpSpPr>
        <p:sp>
          <p:nvSpPr>
            <p:cNvPr id="237" name=""/>
            <p:cNvSpPr/>
            <p:nvPr/>
          </p:nvSpPr>
          <p:spPr>
            <a:xfrm>
              <a:off x="6973920" y="88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985080" y="155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053480" y="155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54840" y="153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6276960" y="1003320"/>
            <a:ext cx="1555920" cy="2825640"/>
            <a:chOff x="6276960" y="1003320"/>
            <a:chExt cx="1555920" cy="2825640"/>
          </a:xfrm>
        </p:grpSpPr>
        <p:sp>
          <p:nvSpPr>
            <p:cNvPr id="242" name=""/>
            <p:cNvSpPr/>
            <p:nvPr/>
          </p:nvSpPr>
          <p:spPr>
            <a:xfrm>
              <a:off x="6296040" y="1003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6307200" y="1671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375600" y="1665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276960" y="1654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5661000" y="1158840"/>
            <a:ext cx="1555920" cy="2825640"/>
            <a:chOff x="5661000" y="1158840"/>
            <a:chExt cx="1555920" cy="2825640"/>
          </a:xfrm>
        </p:grpSpPr>
        <p:sp>
          <p:nvSpPr>
            <p:cNvPr id="247" name=""/>
            <p:cNvSpPr/>
            <p:nvPr/>
          </p:nvSpPr>
          <p:spPr>
            <a:xfrm>
              <a:off x="5680080" y="115884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691240" y="182736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759640" y="182088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5661000" y="180972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1" name=""/>
          <p:cNvGrpSpPr/>
          <p:nvPr/>
        </p:nvGrpSpPr>
        <p:grpSpPr>
          <a:xfrm>
            <a:off x="5091120" y="1290600"/>
            <a:ext cx="1555920" cy="2825640"/>
            <a:chOff x="5091120" y="1290600"/>
            <a:chExt cx="1555920" cy="2825640"/>
          </a:xfrm>
        </p:grpSpPr>
        <p:sp>
          <p:nvSpPr>
            <p:cNvPr id="252" name=""/>
            <p:cNvSpPr/>
            <p:nvPr/>
          </p:nvSpPr>
          <p:spPr>
            <a:xfrm>
              <a:off x="5110200" y="12906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121360" y="19591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189760" y="19526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091120" y="19414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256" name=""/>
          <p:cNvGrpSpPr/>
          <p:nvPr/>
        </p:nvGrpSpPr>
        <p:grpSpPr>
          <a:xfrm>
            <a:off x="3918600" y="1440000"/>
            <a:ext cx="2241720" cy="2825640"/>
            <a:chOff x="3918600" y="1440000"/>
            <a:chExt cx="2241720" cy="2825640"/>
          </a:xfrm>
        </p:grpSpPr>
        <p:sp>
          <p:nvSpPr>
            <p:cNvPr id="257" name=""/>
            <p:cNvSpPr/>
            <p:nvPr/>
          </p:nvSpPr>
          <p:spPr>
            <a:xfrm>
              <a:off x="4340160" y="21081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258" name=""/>
            <p:cNvGrpSpPr/>
            <p:nvPr/>
          </p:nvGrpSpPr>
          <p:grpSpPr>
            <a:xfrm>
              <a:off x="3918600" y="1440000"/>
              <a:ext cx="2241720" cy="2792520"/>
              <a:chOff x="3918600" y="1440000"/>
              <a:chExt cx="2241720" cy="2792520"/>
            </a:xfrm>
          </p:grpSpPr>
          <p:sp>
            <p:nvSpPr>
              <p:cNvPr id="259" name=""/>
              <p:cNvSpPr/>
              <p:nvPr/>
            </p:nvSpPr>
            <p:spPr>
              <a:xfrm>
                <a:off x="4329000" y="14400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4408200" y="21020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4460760" y="23302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>
                <a:off x="4128120" y="16783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 flipH="1" flipV="1">
                <a:off x="4433400" y="24973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3918600" y="30150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0m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4309920" y="20908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66" name=""/>
          <p:cNvSpPr/>
          <p:nvPr/>
        </p:nvSpPr>
        <p:spPr>
          <a:xfrm>
            <a:off x="1956600" y="6107040"/>
            <a:ext cx="279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4800mwe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392960" y="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rot="20864400">
            <a:off x="4638600" y="3225600"/>
            <a:ext cx="4226760" cy="57960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5x200,000m</a:t>
            </a:r>
            <a:r>
              <a:rPr b="0" lang="en-GB" sz="2800" spc="-1" strike="noStrike" baseline="30000">
                <a:solidFill>
                  <a:srgbClr val="003399"/>
                </a:solidFill>
                <a:latin typeface="Comic Sans MS"/>
              </a:rPr>
              <a:t>3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H</a:t>
            </a:r>
            <a:r>
              <a:rPr b="0" lang="en-GB" sz="28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49080" y="457200"/>
            <a:ext cx="7770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800" spc="-1" strike="noStrike">
                <a:solidFill>
                  <a:srgbClr val="003399"/>
                </a:solidFill>
                <a:latin typeface="Comic Sans MS"/>
              </a:rPr>
              <a:t>PMT size &lt;=&gt; cost</a:t>
            </a:r>
            <a:endParaRPr b="0" lang="en-US" sz="4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0" name=""/>
          <p:cNvSpPr/>
          <p:nvPr/>
        </p:nvSpPr>
        <p:spPr>
          <a:xfrm>
            <a:off x="6366960" y="134136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7640" y="1915920"/>
            <a:ext cx="8785080" cy="1904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Diameter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“   &lt;=&gt;      (20“)17“   &lt;=&gt;    12“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projected area         1660                 1450            615    cm²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QE(typ)     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20                     20              24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CE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	</a:t>
            </a:r>
            <a:r>
              <a:rPr b="0" lang="de-DE" sz="2400" spc="-1" strike="noStrike">
                <a:solidFill>
                  <a:srgbClr val="0000ff"/>
                </a:solidFill>
                <a:latin typeface="Comic Sans MS"/>
              </a:rPr>
              <a:t>                60                     60              70    %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2" name=""/>
          <p:cNvSpPr/>
          <p:nvPr/>
        </p:nvSpPr>
        <p:spPr>
          <a:xfrm>
            <a:off x="112680" y="3645000"/>
            <a:ext cx="8636040" cy="609480"/>
          </a:xfrm>
          <a:prstGeom prst="rect">
            <a:avLst/>
          </a:prstGeom>
          <a:solidFill>
            <a:srgbClr val="ffff99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Cost                   2500               2500           800   </a:t>
            </a:r>
            <a:r>
              <a:rPr b="1" lang="de-DE" sz="3200" spc="-1" strike="noStrike">
                <a:solidFill>
                  <a:srgbClr val="0000ff"/>
                </a:solidFill>
                <a:latin typeface="Tahoma"/>
              </a:rPr>
              <a:t>€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24000" y="4724280"/>
            <a:ext cx="882000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ff"/>
              </a:buClr>
              <a:buSzPct val="8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ost/</a:t>
            </a:r>
            <a:r>
              <a:rPr b="0" i="1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 per useful PE</a:t>
            </a:r>
            <a:r>
              <a:rPr b="0" i="1" lang="de-DE" sz="32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= 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ost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/(</a:t>
            </a:r>
            <a:r>
              <a:rPr b="0" lang="de-DE" sz="3200" spc="-1" strike="noStrike">
                <a:solidFill>
                  <a:srgbClr val="0000ff"/>
                </a:solidFill>
                <a:latin typeface="Tahoma"/>
              </a:rPr>
              <a:t>cm²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QE</a:t>
            </a:r>
            <a:r>
              <a:rPr b="0" i="1" lang="de-DE" sz="2400" spc="-1" strike="noStrike">
                <a:solidFill>
                  <a:srgbClr val="0000ff"/>
                </a:solidFill>
                <a:latin typeface="Arial"/>
              </a:rPr>
              <a:t>x</a:t>
            </a:r>
            <a:r>
              <a:rPr b="0" i="1" lang="de-DE" sz="3200" spc="-1" strike="noStrike">
                <a:solidFill>
                  <a:srgbClr val="0000ff"/>
                </a:solidFill>
                <a:latin typeface="Arial"/>
              </a:rPr>
              <a:t>CE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ff"/>
                </a:solidFill>
                <a:latin typeface="Arial"/>
              </a:rPr>
              <a:t>                               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12.6            14.4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1" lang="de-DE" sz="2800" spc="-1" strike="noStrike">
                <a:solidFill>
                  <a:srgbClr val="0000ff"/>
                </a:solidFill>
                <a:latin typeface="Arial"/>
              </a:rPr>
              <a:t>     7.7  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€/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PE</a:t>
            </a:r>
            <a:r>
              <a:rPr b="1" lang="de-DE" sz="2000" spc="-1" strike="noStrike" baseline="-25000">
                <a:solidFill>
                  <a:srgbClr val="0000ff"/>
                </a:solidFill>
                <a:latin typeface="Arial"/>
              </a:rPr>
              <a:t>U</a:t>
            </a:r>
            <a:r>
              <a:rPr b="1" lang="de-DE" sz="2000" spc="-1" strike="noStrike">
                <a:solidFill>
                  <a:srgbClr val="0000ff"/>
                </a:solidFill>
                <a:latin typeface="Arial"/>
              </a:rPr>
              <a:t>/</a:t>
            </a:r>
            <a:r>
              <a:rPr b="0" lang="de-DE" sz="2000" spc="-1" strike="noStrike">
                <a:solidFill>
                  <a:srgbClr val="0000ff"/>
                </a:solidFill>
                <a:latin typeface="Tahoma"/>
              </a:rPr>
              <a:t>cm²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49080" y="45684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Quantities and total cost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25520" y="2492280"/>
            <a:ext cx="854064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20“     </a:t>
            </a:r>
            <a:r>
              <a:rPr b="1" i="1" lang="de-DE" sz="3600" spc="-1" strike="noStrike">
                <a:solidFill>
                  <a:srgbClr val="ff0000"/>
                </a:solidFill>
                <a:latin typeface="Comic Sans MS"/>
              </a:rPr>
              <a:t>200,000</a:t>
            </a:r>
            <a:r>
              <a:rPr b="0" lang="de-DE" sz="3600" spc="-1" strike="noStrike">
                <a:solidFill>
                  <a:srgbClr val="ff0000"/>
                </a:solidFill>
                <a:latin typeface="Comic Sans MS"/>
              </a:rPr>
              <a:t>   x  € 2500 = 500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 </a:t>
            </a:r>
            <a:r>
              <a:rPr b="0" lang="de-DE" sz="3600" spc="-1" strike="noStrike">
                <a:solidFill>
                  <a:srgbClr val="0000ff"/>
                </a:solidFill>
                <a:latin typeface="Comic Sans MS"/>
              </a:rPr>
              <a:t>12“   540,000       x  €800   = </a:t>
            </a:r>
            <a:r>
              <a:rPr b="1" i="1" lang="de-DE" sz="3600" spc="-1" strike="noStrike">
                <a:solidFill>
                  <a:srgbClr val="0000ff"/>
                </a:solidFill>
                <a:latin typeface="Comic Sans MS"/>
              </a:rPr>
              <a:t>432</a:t>
            </a:r>
            <a:r>
              <a:rPr b="1" i="1" lang="en-US" sz="3600" spc="-1" strike="noStrike">
                <a:solidFill>
                  <a:srgbClr val="0000ff"/>
                </a:solidFill>
                <a:latin typeface="Comic Sans MS"/>
              </a:rPr>
              <a:t>M</a:t>
            </a: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76" name=""/>
          <p:cNvSpPr/>
          <p:nvPr/>
        </p:nvSpPr>
        <p:spPr>
          <a:xfrm>
            <a:off x="698040" y="4832280"/>
            <a:ext cx="781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0000"/>
                </a:solidFill>
                <a:latin typeface="Comic Sans MS"/>
              </a:rPr>
              <a:t>Comment: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99"/>
                </a:solidFill>
                <a:latin typeface="Comic Sans MS"/>
              </a:rPr>
              <a:t>one should integrate the electronic + HV price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4657680"/>
            <a:ext cx="799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366960" y="196992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hotodetector R&amp;D in France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3000" y="1386000"/>
            <a:ext cx="8364600" cy="41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&amp;D launched after NNN05 but based on on-going R&amp;D with Photoni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IPN-Orsay, LAL &amp; Photonis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together in an official GIS to develop 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Smart-Photodetectors (</a:t>
            </a:r>
            <a:r>
              <a:rPr b="0" i="1" lang="en-GB" sz="1800" spc="-1" strike="noStrike">
                <a:solidFill>
                  <a:srgbClr val="ff0000"/>
                </a:solidFill>
                <a:latin typeface="Comic Sans MS"/>
              </a:rPr>
              <a:t>ie electronic up to ADC/TDC included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)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: 6 engineers + 2 post-docs  + Photonis engineer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spcBef>
                <a:spcPts val="7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200k€/3yrs has been asked at the new National Research Agency (ANR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1" name=""/>
          <p:cNvSpPr/>
          <p:nvPr/>
        </p:nvSpPr>
        <p:spPr>
          <a:xfrm>
            <a:off x="329760" y="5386320"/>
            <a:ext cx="912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Photonis @ NNN05: 500,000 PMT -12”- 800€/u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53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3399"/>
                </a:solidFill>
                <a:latin typeface="Comic Sans MS"/>
              </a:rPr>
              <a:t>New pump capacity needed?</a:t>
            </a:r>
            <a:endParaRPr b="0" lang="en-US" sz="4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843120" y="1123920"/>
            <a:ext cx="7781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Delivery over 6 years 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lang="de-DE" sz="3200" spc="-1" strike="noStrike">
                <a:solidFill>
                  <a:srgbClr val="000099"/>
                </a:solidFill>
                <a:latin typeface="Comic Sans MS"/>
              </a:rPr>
              <a:t>300 working days/year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4" name=""/>
          <p:cNvSpPr/>
          <p:nvPr/>
        </p:nvSpPr>
        <p:spPr>
          <a:xfrm>
            <a:off x="843120" y="2133720"/>
            <a:ext cx="778176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20“ tube</a:t>
            </a:r>
            <a:r>
              <a:rPr b="0" i="1" lang="de-DE" sz="2000" spc="-1" strike="noStrike" u="sng">
                <a:solidFill>
                  <a:srgbClr val="000099"/>
                </a:solidFill>
                <a:uFillTx/>
                <a:latin typeface="Comic Sans MS"/>
              </a:rPr>
              <a:t>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50,000/6/300 =&gt; 28 good tubes x yield 0.7 = 40 starts/day    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(1 start/pump/day) =&gt;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40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( € 7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43120" y="3181320"/>
            <a:ext cx="7781760" cy="30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499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735480" indent="-282960">
              <a:lnSpc>
                <a:spcPct val="100000"/>
              </a:lnSpc>
              <a:spcBef>
                <a:spcPts val="1250"/>
              </a:spcBef>
              <a:buClr>
                <a:srgbClr val="000099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</a:t>
            </a:r>
            <a:r>
              <a:rPr b="0" i="1" lang="de-DE" sz="2000" spc="-1" strike="noStrike" u="sng">
                <a:solidFill>
                  <a:srgbClr val="ff0000"/>
                </a:solidFill>
                <a:uFillTx/>
                <a:latin typeface="Comic Sans MS"/>
              </a:rPr>
              <a:t>12“ tub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135,000/6/300 =&gt; 75 good tubes x yield 0.7 = 110 starts/day.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e-DE" sz="2000" spc="-1" strike="noStrike">
                <a:solidFill>
                  <a:srgbClr val="000099"/>
                </a:solidFill>
                <a:latin typeface="Comic Sans MS"/>
              </a:rPr>
              <a:t>A multi-array computerised pump at Photonis handles 20 starts/da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2" marL="1131480" indent="-226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       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=&gt; 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	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      </a:t>
            </a:r>
            <a:r>
              <a:rPr b="0" i="1" lang="de-DE" sz="2000" spc="-1" strike="noStrike">
                <a:solidFill>
                  <a:srgbClr val="ff0000"/>
                </a:solidFill>
                <a:latin typeface="Comic Sans MS"/>
              </a:rPr>
              <a:t>6 pumps</a:t>
            </a:r>
            <a:r>
              <a:rPr b="0" i="1" lang="de-DE" sz="2000" spc="-1" strike="noStrike">
                <a:solidFill>
                  <a:srgbClr val="000099"/>
                </a:solidFill>
                <a:latin typeface="Comic Sans MS"/>
              </a:rPr>
              <a:t>   ( € 2M or so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566080" y="6461280"/>
            <a:ext cx="5189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Comment: x4 the PMT number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462360" y="1670040"/>
            <a:ext cx="2334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 u="sng">
                <a:solidFill>
                  <a:srgbClr val="000099"/>
                </a:solidFill>
                <a:uFillTx/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49080" y="198000"/>
            <a:ext cx="7770600" cy="824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3399"/>
                </a:solidFill>
                <a:latin typeface="Comic Sans MS"/>
              </a:rPr>
              <a:t>+ Sub-conclusions</a:t>
            </a:r>
            <a:endParaRPr b="0" lang="en-US" sz="4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685440" y="15238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000099"/>
                </a:solidFill>
                <a:latin typeface="Comic Sans MS"/>
              </a:rPr>
              <a:t>12“ seems much better than 20“/17“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cost per useful photoelectron &amp; total PMT cost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Tim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single-electron resolution (17“ equal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granularity 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weight and handl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mplosion risk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DE" sz="2800" spc="-1" strike="noStrike">
                <a:solidFill>
                  <a:srgbClr val="000099"/>
                </a:solidFill>
                <a:latin typeface="Comic Sans MS"/>
              </a:rPr>
              <a:t>investments and start-up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0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907920" y="593280"/>
            <a:ext cx="752328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Photonis has all the technical capability needed!</a:t>
            </a:r>
            <a:br>
              <a:rPr sz="3200"/>
            </a:br>
            <a:br>
              <a:rPr sz="2800"/>
            </a:br>
            <a:r>
              <a:rPr b="0" i="1" lang="en-US" sz="3200" spc="-1" strike="noStrike">
                <a:solidFill>
                  <a:srgbClr val="003399"/>
                </a:solidFill>
                <a:latin typeface="Comic Sans MS"/>
              </a:rPr>
              <a:t>R&amp;D cooperation:</a:t>
            </a:r>
            <a:r>
              <a:rPr b="0" lang="en-US" sz="3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detailed &amp; intensive talks are going on with the MEMPHYS collaboration to</a:t>
            </a:r>
            <a:r>
              <a:rPr b="1" i="1" lang="en-US" sz="2800" spc="-1" strike="noStrike">
                <a:solidFill>
                  <a:srgbClr val="003399"/>
                </a:solidFill>
                <a:latin typeface="Comic Sans MS"/>
              </a:rPr>
              <a:t> d</a:t>
            </a: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efine a balanced programme</a:t>
            </a:r>
            <a:br>
              <a:rPr sz="2800"/>
            </a:br>
            <a:br>
              <a:rPr sz="2800"/>
            </a:br>
            <a:r>
              <a:rPr b="0" i="1" lang="en-US" sz="2800" spc="-1" strike="noStrike">
                <a:solidFill>
                  <a:srgbClr val="003399"/>
                </a:solidFill>
                <a:latin typeface="Comic Sans MS"/>
              </a:rPr>
              <a:t>Workshop planned in the spring</a:t>
            </a:r>
            <a:br>
              <a:rPr sz="2400"/>
            </a:b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2" name=""/>
          <p:cNvSpPr/>
          <p:nvPr/>
        </p:nvSpPr>
        <p:spPr>
          <a:xfrm>
            <a:off x="5381280" y="6032520"/>
            <a:ext cx="36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Photonis @ NNN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ingredients for physics analysi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385640"/>
            <a:ext cx="8077320" cy="413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Č located 130km from CERN (see site later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Essentially SK analysis with tighter cuts for e/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id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cf. hep-ph/0105297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energy resolution dominated by Fermi motion* (200MeV bins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2% systematics on signal &amp; bkgd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(see effect later)</a:t>
            </a:r>
            <a:endParaRPr b="0" lang="en-US" sz="16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ptimized machine versions: </a:t>
            </a:r>
            <a:r>
              <a:rPr b="0" lang="en-US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B (M. Mezzetto) and SB (A.C + J.E.C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Atmospheric Neutrinos </a:t>
            </a: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(Th. Schwetz)</a:t>
            </a:r>
            <a:endParaRPr b="0" lang="en-US" sz="1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LoBES &amp; NUANCE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6014880"/>
            <a:ext cx="4167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*: migration matrix for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lectronic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88600" y="2109960"/>
            <a:ext cx="8077320" cy="26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rigger @ ¼ p.e (3kHz from SK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DC: 12bits 0,4ns/c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ADC: 12bits 0,15pC/c with 1 p.e @ 20-30 adc channels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33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High speed digital readout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Cost reducti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thanks to high level of integration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Use AMS 0,35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m BiCMOS ASIC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295" name=""/>
          <p:cNvSpPr/>
          <p:nvPr/>
        </p:nvSpPr>
        <p:spPr>
          <a:xfrm>
            <a:off x="1371600" y="1008000"/>
            <a:ext cx="6961320" cy="9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LAL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from amplifier 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up to ADC/TDC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based on past experience with similar state of the art front-end electronics developed for OPERA, W-Si ILC prototype, LHCb…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296" name=""/>
          <p:cNvGrpSpPr/>
          <p:nvPr/>
        </p:nvGrpSpPr>
        <p:grpSpPr>
          <a:xfrm>
            <a:off x="1879560" y="4384800"/>
            <a:ext cx="6317640" cy="2220840"/>
            <a:chOff x="1879560" y="4384800"/>
            <a:chExt cx="6317640" cy="2220840"/>
          </a:xfrm>
        </p:grpSpPr>
        <p:sp>
          <p:nvSpPr>
            <p:cNvPr id="297" name=""/>
            <p:cNvSpPr/>
            <p:nvPr/>
          </p:nvSpPr>
          <p:spPr>
            <a:xfrm>
              <a:off x="1879560" y="4681440"/>
              <a:ext cx="5978520" cy="1924200"/>
            </a:xfrm>
            <a:prstGeom prst="roundRect">
              <a:avLst>
                <a:gd name="adj" fmla="val 16667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449440" y="4890960"/>
              <a:ext cx="930240" cy="1519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mpli</a:t>
              </a:r>
              <a:r>
                <a:rPr b="0" lang="fr-FR" sz="1600" spc="-1" strike="noStrike">
                  <a:solidFill>
                    <a:srgbClr val="003399"/>
                  </a:solidFill>
                  <a:latin typeface="Comic Sans MS"/>
                </a:rPr>
                <a:t>.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053160" y="4897440"/>
              <a:ext cx="2851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low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75480" y="6032520"/>
              <a:ext cx="27820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st shape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853520" y="4897440"/>
              <a:ext cx="191484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&amp;H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02" name=""/>
            <p:cNvGrpSpPr/>
            <p:nvPr/>
          </p:nvGrpSpPr>
          <p:grpSpPr>
            <a:xfrm>
              <a:off x="5477040" y="5921280"/>
              <a:ext cx="777600" cy="628920"/>
              <a:chOff x="5477040" y="5921280"/>
              <a:chExt cx="777600" cy="628920"/>
            </a:xfrm>
          </p:grpSpPr>
          <p:sp>
            <p:nvSpPr>
              <p:cNvPr id="303" name=""/>
              <p:cNvSpPr/>
              <p:nvPr/>
            </p:nvSpPr>
            <p:spPr>
              <a:xfrm>
                <a:off x="5609880" y="6043320"/>
                <a:ext cx="524880" cy="384120"/>
              </a:xfrm>
              <a:custGeom>
                <a:avLst/>
                <a:gdLst/>
                <a:ahLst/>
                <a:rect l="l" t="t" r="r" b="b"/>
                <a:pathLst>
                  <a:path w="679" h="352">
                    <a:moveTo>
                      <a:pt x="679" y="0"/>
                    </a:moveTo>
                    <a:lnTo>
                      <a:pt x="344" y="0"/>
                    </a:lnTo>
                    <a:lnTo>
                      <a:pt x="344" y="352"/>
                    </a:lnTo>
                    <a:lnTo>
                      <a:pt x="0" y="352"/>
                    </a:lnTo>
                  </a:path>
                </a:pathLst>
              </a:custGeom>
              <a:noFill/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5477040" y="5921280"/>
                <a:ext cx="777600" cy="6289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05" name=""/>
            <p:cNvSpPr/>
            <p:nvPr/>
          </p:nvSpPr>
          <p:spPr>
            <a:xfrm>
              <a:off x="5875560" y="6032520"/>
              <a:ext cx="188892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T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5868000" y="4897440"/>
              <a:ext cx="191016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ADC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396760" y="552132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12720" y="4384800"/>
              <a:ext cx="2184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Trigger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cxnSp>
          <p:nvCxnSpPr>
            <p:cNvPr id="309" name=""/>
            <p:cNvCxnSpPr>
              <a:stCxn id="308" idx="1"/>
              <a:endCxn id="301" idx="0"/>
            </p:cNvCxnSpPr>
            <p:nvPr/>
          </p:nvCxnSpPr>
          <p:spPr>
            <a:xfrm flipV="1" rot="10800000">
              <a:off x="5811120" y="4567320"/>
              <a:ext cx="799200" cy="3290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  <p:cxnSp>
          <p:nvCxnSpPr>
            <p:cNvPr id="310" name=""/>
            <p:cNvCxnSpPr>
              <a:stCxn id="298" idx="3"/>
              <a:endCxn id="299" idx="1"/>
            </p:cNvCxnSpPr>
            <p:nvPr/>
          </p:nvCxnSpPr>
          <p:spPr>
            <a:xfrm flipV="1">
              <a:off x="3379320" y="5100120"/>
              <a:ext cx="289440" cy="551520"/>
            </a:xfrm>
            <a:prstGeom prst="curvedConnector5">
              <a:avLst>
                <a:gd name="adj1" fmla="val 49937"/>
                <a:gd name="adj2" fmla="val 49967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1" name=""/>
            <p:cNvCxnSpPr>
              <a:stCxn id="298" idx="3"/>
              <a:endCxn id="300" idx="1"/>
            </p:cNvCxnSpPr>
            <p:nvPr/>
          </p:nvCxnSpPr>
          <p:spPr>
            <a:xfrm>
              <a:off x="3379320" y="5651640"/>
              <a:ext cx="289440" cy="584640"/>
            </a:xfrm>
            <a:prstGeom prst="curvedConnector5">
              <a:avLst>
                <a:gd name="adj1" fmla="val 49937"/>
                <a:gd name="adj2" fmla="val 49969"/>
                <a:gd name="adj3" fmla="val 49937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312" name=""/>
            <p:cNvCxnSpPr>
              <a:stCxn id="304" idx="0"/>
              <a:endCxn id="307" idx="1"/>
            </p:cNvCxnSpPr>
            <p:nvPr/>
          </p:nvCxnSpPr>
          <p:spPr>
            <a:xfrm flipH="1" flipV="1" rot="5400000">
              <a:off x="5821920" y="5748480"/>
              <a:ext cx="216360" cy="129240"/>
            </a:xfrm>
            <a:prstGeom prst="curvedConnector2">
              <a:avLst/>
            </a:prstGeom>
            <a:ln w="38160">
              <a:solidFill>
                <a:srgbClr val="3366ff"/>
              </a:solidFill>
              <a:miter/>
              <a:tailEnd len="med" type="triangle" w="med"/>
            </a:ln>
          </p:spPr>
        </p:cxnSp>
      </p:grpSp>
      <p:sp>
        <p:nvSpPr>
          <p:cNvPr id="313" name=""/>
          <p:cNvSpPr/>
          <p:nvPr/>
        </p:nvSpPr>
        <p:spPr>
          <a:xfrm>
            <a:off x="1041480" y="524520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34640" y="5340240"/>
            <a:ext cx="2241000" cy="5814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PM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7108920" y="4986360"/>
            <a:ext cx="2637000" cy="1170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Digital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Info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cxnSp>
        <p:nvCxnSpPr>
          <p:cNvPr id="316" name=""/>
          <p:cNvCxnSpPr>
            <a:stCxn id="306" idx="3"/>
            <a:endCxn id="315" idx="1"/>
          </p:cNvCxnSpPr>
          <p:nvPr/>
        </p:nvCxnSpPr>
        <p:spPr>
          <a:xfrm>
            <a:off x="7179840" y="5100120"/>
            <a:ext cx="531000" cy="4690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7" name=""/>
          <p:cNvCxnSpPr>
            <a:stCxn id="305" idx="3"/>
            <a:endCxn id="315" idx="1"/>
          </p:cNvCxnSpPr>
          <p:nvPr/>
        </p:nvCxnSpPr>
        <p:spPr>
          <a:xfrm flipV="1">
            <a:off x="7170480" y="5568480"/>
            <a:ext cx="540360" cy="667440"/>
          </a:xfrm>
          <a:prstGeom prst="curvedConnector5">
            <a:avLst>
              <a:gd name="adj1" fmla="val 50000"/>
              <a:gd name="adj2" fmla="val 49973"/>
              <a:gd name="adj3" fmla="val 5000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cxnSp>
        <p:nvCxnSpPr>
          <p:cNvPr id="318" name=""/>
          <p:cNvCxnSpPr>
            <a:stCxn id="314" idx="3"/>
            <a:endCxn id="298" idx="1"/>
          </p:cNvCxnSpPr>
          <p:nvPr/>
        </p:nvCxnSpPr>
        <p:spPr>
          <a:xfrm>
            <a:off x="1769760" y="5630760"/>
            <a:ext cx="680040" cy="21600"/>
          </a:xfrm>
          <a:prstGeom prst="straightConnector1">
            <a:avLst/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echanics &amp; PMT tes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5761080" y="2027160"/>
            <a:ext cx="3058920" cy="3338640"/>
          </a:xfrm>
          <a:prstGeom prst="rect">
            <a:avLst/>
          </a:prstGeom>
          <a:ln w="0">
            <a:noFill/>
          </a:ln>
        </p:spPr>
      </p:pic>
      <p:pic>
        <p:nvPicPr>
          <p:cNvPr id="321" name="" descr=""/>
          <p:cNvPicPr/>
          <p:nvPr/>
        </p:nvPicPr>
        <p:blipFill>
          <a:blip r:embed="rId2"/>
          <a:srcRect l="3556" t="9778" r="8893" b="3911"/>
          <a:stretch/>
        </p:blipFill>
        <p:spPr>
          <a:xfrm>
            <a:off x="1117440" y="2209680"/>
            <a:ext cx="2003760" cy="215424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655560" y="4753080"/>
            <a:ext cx="5261040" cy="12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asic unit that we want to build and test under water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6004080" y="4787640"/>
            <a:ext cx="314280" cy="531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305160" y="2976480"/>
            <a:ext cx="2305080" cy="74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lectronic box water tigh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 flipH="1">
            <a:off x="2592000" y="3244680"/>
            <a:ext cx="668520" cy="14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7332840" y="5388120"/>
            <a:ext cx="203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235160" y="946080"/>
            <a:ext cx="6960960" cy="10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just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Taken in charge by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IPNO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: well experienced in photodetectors (last operation: Auger). With PHOTONIS tests of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PMT</a:t>
            </a:r>
            <a:r>
              <a:rPr b="0" lang="en-GB" sz="1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8”, 9” </a:t>
            </a:r>
            <a:r>
              <a:rPr b="0" lang="en-GB" sz="1800" spc="-1" strike="noStrike">
                <a:solidFill>
                  <a:srgbClr val="003399"/>
                </a:solidFill>
                <a:latin typeface="Symbol"/>
                <a:ea typeface="Symbol"/>
              </a:rPr>
              <a:t>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800" spc="-1" strike="noStrike">
                <a:solidFill>
                  <a:srgbClr val="ff0000"/>
                </a:solidFill>
                <a:latin typeface="Comic Sans MS"/>
              </a:rPr>
              <a:t>12”</a:t>
            </a: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 and Hybrid-PMT and HPD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MT characteristics measurement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3016080" y="1090440"/>
            <a:ext cx="5715000" cy="46152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5435280" y="1751040"/>
            <a:ext cx="403452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1pe spectrum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80480" y="4554360"/>
            <a:ext cx="301824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IPNO 14/9/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84600" y="1687680"/>
            <a:ext cx="4100040" cy="175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XP1806 8”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bes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Not the worse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6760" y="5810400"/>
            <a:ext cx="844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o diff. 5”,8”,10” so 12” should be identical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5556600" y="2455920"/>
            <a:ext cx="337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2kV/G=10</a:t>
            </a:r>
            <a:r>
              <a:rPr b="0" lang="en-GB" sz="3200" spc="-1" strike="noStrike" baseline="30000">
                <a:solidFill>
                  <a:srgbClr val="003399"/>
                </a:solidFill>
                <a:latin typeface="Comic Sans MS"/>
              </a:rPr>
              <a:t>7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2601720" y="5411880"/>
            <a:ext cx="3013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g=25 before ADC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51320" y="3687840"/>
            <a:ext cx="15285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95600" y="3332160"/>
            <a:ext cx="152892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4750920" y="3170160"/>
            <a:ext cx="250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/V~3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H="1">
            <a:off x="5159160" y="3289320"/>
            <a:ext cx="12600" cy="436680"/>
          </a:xfrm>
          <a:prstGeom prst="line">
            <a:avLst/>
          </a:prstGeom>
          <a:ln w="936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ummar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92200" y="1305000"/>
            <a:ext cx="8229600" cy="34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MEMPHYS Mt-scale Water Cerencov detector has a quite good accelerator neutrino program (not exposed here the Pdk and SN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R&amp;D on photodetector is started in France and will come in 2006 with first version of “SmartDetector”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 Civil engineer pre-study for new Fréjus Lab. has been performed and seems encouraging (first costing will come soon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42" name=""/>
          <p:cNvSpPr/>
          <p:nvPr/>
        </p:nvSpPr>
        <p:spPr>
          <a:xfrm>
            <a:off x="3690360" y="5651640"/>
            <a:ext cx="34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Thank you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800" spc="-1" strike="noStrike">
                <a:solidFill>
                  <a:srgbClr val="003399"/>
                </a:solidFill>
                <a:latin typeface="Comic Sans MS"/>
              </a:rPr>
              <a:t>END</a:t>
            </a:r>
            <a:endParaRPr b="0" lang="en-US" sz="88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Other expected performances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4865760" y="1655640"/>
            <a:ext cx="3954240" cy="4052880"/>
            <a:chOff x="4865760" y="1655640"/>
            <a:chExt cx="3954240" cy="4052880"/>
          </a:xfrm>
        </p:grpSpPr>
        <p:sp>
          <p:nvSpPr>
            <p:cNvPr id="346" name=""/>
            <p:cNvSpPr/>
            <p:nvPr/>
          </p:nvSpPr>
          <p:spPr>
            <a:xfrm>
              <a:off x="4875120" y="165564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47" name=""/>
            <p:cNvGrpSpPr/>
            <p:nvPr/>
          </p:nvGrpSpPr>
          <p:grpSpPr>
            <a:xfrm>
              <a:off x="4865760" y="1761840"/>
              <a:ext cx="3678120" cy="3732120"/>
              <a:chOff x="4865760" y="1761840"/>
              <a:chExt cx="3678120" cy="3732120"/>
            </a:xfrm>
          </p:grpSpPr>
          <p:pic>
            <p:nvPicPr>
              <p:cNvPr id="348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865760" y="2157120"/>
                <a:ext cx="3678120" cy="33368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49" name=""/>
              <p:cNvSpPr/>
              <p:nvPr/>
            </p:nvSpPr>
            <p:spPr>
              <a:xfrm>
                <a:off x="5475240" y="4186080"/>
                <a:ext cx="1200240" cy="767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+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2000" spc="-1" strike="noStrike">
                    <a:solidFill>
                      <a:srgbClr val="003399"/>
                    </a:solidFill>
                    <a:latin typeface="Comic Sans MS"/>
                  </a:rPr>
                  <a:t>-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5684760" y="1761840"/>
                <a:ext cx="239616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Symbol"/>
                    <a:ea typeface="Symbol"/>
                  </a:rPr>
                  <a:t>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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51" name=""/>
          <p:cNvGrpSpPr/>
          <p:nvPr/>
        </p:nvGrpSpPr>
        <p:grpSpPr>
          <a:xfrm>
            <a:off x="684360" y="1635120"/>
            <a:ext cx="4020120" cy="4052880"/>
            <a:chOff x="684360" y="1635120"/>
            <a:chExt cx="4020120" cy="4052880"/>
          </a:xfrm>
        </p:grpSpPr>
        <p:sp>
          <p:nvSpPr>
            <p:cNvPr id="352" name=""/>
            <p:cNvSpPr/>
            <p:nvPr/>
          </p:nvSpPr>
          <p:spPr>
            <a:xfrm>
              <a:off x="684360" y="1635120"/>
              <a:ext cx="3944880" cy="4052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353" name=""/>
            <p:cNvGrpSpPr/>
            <p:nvPr/>
          </p:nvGrpSpPr>
          <p:grpSpPr>
            <a:xfrm>
              <a:off x="768240" y="1739880"/>
              <a:ext cx="3936240" cy="3818160"/>
              <a:chOff x="768240" y="1739880"/>
              <a:chExt cx="3936240" cy="3818160"/>
            </a:xfrm>
          </p:grpSpPr>
          <p:pic>
            <p:nvPicPr>
              <p:cNvPr id="35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906480" y="2176560"/>
                <a:ext cx="3571920" cy="33814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5" name=""/>
              <p:cNvSpPr/>
              <p:nvPr/>
            </p:nvSpPr>
            <p:spPr>
              <a:xfrm>
                <a:off x="768240" y="1739880"/>
                <a:ext cx="3753000" cy="440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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m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31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&amp; sin</a:t>
                </a:r>
                <a:r>
                  <a:rPr b="0" lang="en-GB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0" lang="en-GB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23</a:t>
                </a: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 measurements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2437560" y="4583160"/>
                <a:ext cx="226692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3399"/>
                    </a:solidFill>
                    <a:latin typeface="Comic Sans MS"/>
                  </a:rPr>
                  <a:t>5yrs (+)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7" name=""/>
          <p:cNvSpPr/>
          <p:nvPr/>
        </p:nvSpPr>
        <p:spPr>
          <a:xfrm>
            <a:off x="86040" y="5567400"/>
            <a:ext cx="520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annot resolve the octant alo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First results of a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easibility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 study for </a:t>
            </a:r>
            <a:br>
              <a:rPr sz="2400"/>
            </a:b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a Megaton-scale (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Memphys</a:t>
            </a:r>
            <a:r>
              <a:rPr b="1" lang="en-GB" sz="2400" spc="-1" strike="noStrike">
                <a:solidFill>
                  <a:srgbClr val="2119ac"/>
                </a:solidFill>
                <a:latin typeface="Arial"/>
              </a:rPr>
              <a:t>) Laboratory at </a:t>
            </a:r>
            <a:r>
              <a:rPr b="1" lang="en-GB" sz="2400" spc="-1" strike="noStrike">
                <a:solidFill>
                  <a:srgbClr val="e1121a"/>
                </a:solidFill>
                <a:latin typeface="Arial"/>
              </a:rPr>
              <a:t>Fréj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 the best site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of the mount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t a depth of 4800 mwe :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of the two considered shapes : “tunnel” and “shaft”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vertical cylinder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, a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possible 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is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5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shafts of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24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each =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1 200 000 m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                     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(</a:t>
            </a:r>
            <a:r>
              <a:rPr b="0" lang="en-GB" sz="1800" spc="-1" strike="noStrike">
                <a:solidFill>
                  <a:srgbClr val="2119ac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 = 65m, h = 80m)</a:t>
            </a:r>
            <a:r>
              <a:rPr b="0" lang="en-GB" sz="1800" spc="-1" strike="noStrike" baseline="30000">
                <a:solidFill>
                  <a:srgbClr val="e1121a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with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” shafts, this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cenario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could b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still improved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(only 4 shafts neede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gt;  an estimate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needed for the exca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nd of the </a:t>
            </a:r>
            <a:r>
              <a:rPr b="0" lang="en-GB" sz="1800" spc="-1" strike="noStrike">
                <a:solidFill>
                  <a:srgbClr val="2119ac"/>
                </a:solidFill>
                <a:latin typeface="Arial"/>
              </a:rPr>
              <a:t>cost 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is under w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92960" y="6461280"/>
            <a:ext cx="237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L.Mosc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Use of the Atmospheric Dat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1619280" y="1076400"/>
            <a:ext cx="5937840" cy="5240520"/>
            <a:chOff x="1619280" y="1076400"/>
            <a:chExt cx="5937840" cy="5240520"/>
          </a:xfrm>
        </p:grpSpPr>
        <p:pic>
          <p:nvPicPr>
            <p:cNvPr id="363" name="" descr=""/>
            <p:cNvPicPr/>
            <p:nvPr/>
          </p:nvPicPr>
          <p:blipFill>
            <a:blip r:embed="rId1"/>
            <a:stretch/>
          </p:blipFill>
          <p:spPr>
            <a:xfrm>
              <a:off x="1619280" y="1076400"/>
              <a:ext cx="5359320" cy="523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4" name=""/>
            <p:cNvSpPr/>
            <p:nvPr/>
          </p:nvSpPr>
          <p:spPr>
            <a:xfrm>
              <a:off x="5584320" y="59180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66" name=""/>
          <p:cNvSpPr/>
          <p:nvPr/>
        </p:nvSpPr>
        <p:spPr>
          <a:xfrm>
            <a:off x="135360" y="6081840"/>
            <a:ext cx="404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Use glbChiDelta and </a:t>
            </a:r>
            <a:r>
              <a:rPr b="0" lang="fr-FR" sz="14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fr-FR" sz="14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1400" spc="-1" strike="noStrike">
                <a:solidFill>
                  <a:srgbClr val="003399"/>
                </a:solidFill>
                <a:latin typeface="Comic Sans MS"/>
              </a:rPr>
              <a:t> (1dof)=9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072040" y="2230560"/>
            <a:ext cx="3981600" cy="21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 </a:t>
            </a:r>
            <a:r>
              <a:rPr b="0" lang="en-GB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0099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000099"/>
                </a:solidFill>
                <a:latin typeface="Comic Sans MS"/>
              </a:rPr>
              <a:t>,</a:t>
            </a:r>
            <a:r>
              <a:rPr b="1" lang="en-GB" sz="1600" spc="-1" strike="noStrike">
                <a:solidFill>
                  <a:srgbClr val="000099"/>
                </a:solidFill>
                <a:latin typeface="Symbol"/>
                <a:ea typeface="Symbol"/>
              </a:rPr>
              <a:t>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Tests 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0 and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1" lang="en-GB" sz="1600" spc="-1" strike="noStrike">
                <a:solidFill>
                  <a:srgbClr val="ff0000"/>
                </a:solidFill>
                <a:latin typeface="Comic Sans MS"/>
              </a:rPr>
              <a:t>=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% syst on signal &amp; bkg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68" name=""/>
          <p:cNvGrpSpPr/>
          <p:nvPr/>
        </p:nvGrpSpPr>
        <p:grpSpPr>
          <a:xfrm>
            <a:off x="-189000" y="1039680"/>
            <a:ext cx="5502240" cy="4962600"/>
            <a:chOff x="-189000" y="1039680"/>
            <a:chExt cx="5502240" cy="4962600"/>
          </a:xfrm>
        </p:grpSpPr>
        <p:sp>
          <p:nvSpPr>
            <p:cNvPr id="369" name=""/>
            <p:cNvSpPr/>
            <p:nvPr/>
          </p:nvSpPr>
          <p:spPr>
            <a:xfrm>
              <a:off x="299880" y="1085760"/>
              <a:ext cx="4872240" cy="4916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30560" y="1039680"/>
              <a:ext cx="486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3399"/>
                  </a:solidFill>
                  <a:latin typeface="Comic Sans MS"/>
                </a:rPr>
                <a:t>CP discovery @ 3</a:t>
              </a:r>
              <a:r>
                <a:rPr b="0" lang="en-US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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371" name="" descr=""/>
            <p:cNvPicPr/>
            <p:nvPr/>
          </p:nvPicPr>
          <p:blipFill>
            <a:blip r:embed="rId1"/>
            <a:srcRect l="0" t="0" r="0" b="2088"/>
            <a:stretch/>
          </p:blipFill>
          <p:spPr>
            <a:xfrm>
              <a:off x="411120" y="1566720"/>
              <a:ext cx="4562640" cy="416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2" name=""/>
            <p:cNvSpPr/>
            <p:nvPr/>
          </p:nvSpPr>
          <p:spPr>
            <a:xfrm>
              <a:off x="568080" y="4125960"/>
              <a:ext cx="243756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2yrs (+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3399"/>
                  </a:solidFill>
                  <a:latin typeface="Comic Sans MS"/>
                </a:rPr>
                <a:t>8yrs (-)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-189000" y="550404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844720" y="3174840"/>
              <a:ext cx="368280" cy="0"/>
            </a:xfrm>
            <a:prstGeom prst="line">
              <a:avLst/>
            </a:prstGeom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767320" y="2951280"/>
              <a:ext cx="246636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3366ff"/>
                  </a:solidFill>
                  <a:latin typeface="Comic Sans MS"/>
                </a:rPr>
                <a:t>Old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2819520" y="3632040"/>
              <a:ext cx="3682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730960" y="3408480"/>
              <a:ext cx="2582280" cy="3988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New Opti.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5230800" y="5025960"/>
            <a:ext cx="3689280" cy="9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Octant and mass hierarchy degeneracy have little impact on the contour.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comparisons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380" name="" descr=""/>
          <p:cNvPicPr/>
          <p:nvPr/>
        </p:nvPicPr>
        <p:blipFill>
          <a:blip r:embed="rId1"/>
          <a:stretch/>
        </p:blipFill>
        <p:spPr>
          <a:xfrm>
            <a:off x="0" y="1136520"/>
            <a:ext cx="9144000" cy="4584960"/>
          </a:xfrm>
          <a:prstGeom prst="rect">
            <a:avLst/>
          </a:prstGeom>
          <a:ln w="0">
            <a:noFill/>
          </a:ln>
        </p:spPr>
      </p:pic>
      <p:sp>
        <p:nvSpPr>
          <p:cNvPr id="381" name=""/>
          <p:cNvSpPr/>
          <p:nvPr/>
        </p:nvSpPr>
        <p:spPr>
          <a:xfrm>
            <a:off x="6212880" y="5349960"/>
            <a:ext cx="322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M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article Id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from M. Mezzetto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rcRect l="0" t="13430" r="0" b="0"/>
          <a:stretch/>
        </p:blipFill>
        <p:spPr>
          <a:xfrm>
            <a:off x="500040" y="1060560"/>
            <a:ext cx="8624880" cy="546084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383" name=""/>
          <p:cNvSpPr/>
          <p:nvPr/>
        </p:nvSpPr>
        <p:spPr>
          <a:xfrm>
            <a:off x="2133720" y="1033560"/>
            <a:ext cx="538956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, GLoBE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671360" y="4272120"/>
            <a:ext cx="4275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5652000" y="6303960"/>
            <a:ext cx="348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(2dof)=4.6 or 11.83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80720" y="6273720"/>
            <a:ext cx="395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5 bins [0.08,1.08] GeV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384800" y="4973760"/>
            <a:ext cx="48484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GB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GB" sz="20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90%CL) = 610</a:t>
            </a:r>
            <a:r>
              <a:rPr b="1" lang="en-GB" sz="2000" spc="-1" strike="noStrike" baseline="30000">
                <a:solidFill>
                  <a:srgbClr val="000099"/>
                </a:solidFill>
                <a:latin typeface="Comic Sans MS"/>
              </a:rPr>
              <a:t>-3 </a:t>
            </a:r>
            <a:r>
              <a:rPr b="1" lang="en-GB" sz="2000" spc="-1" strike="noStrike">
                <a:solidFill>
                  <a:srgbClr val="000099"/>
                </a:solidFill>
                <a:latin typeface="Comic Sans MS"/>
              </a:rPr>
              <a:t>(0.7°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5415480" y="1778040"/>
            <a:ext cx="2784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5yrs (+)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-457200" y="1525680"/>
            <a:ext cx="5313240" cy="4314600"/>
            <a:chOff x="-457200" y="1525680"/>
            <a:chExt cx="5313240" cy="4314600"/>
          </a:xfrm>
        </p:grpSpPr>
        <p:grpSp>
          <p:nvGrpSpPr>
            <p:cNvPr id="390" name=""/>
            <p:cNvGrpSpPr/>
            <p:nvPr/>
          </p:nvGrpSpPr>
          <p:grpSpPr>
            <a:xfrm>
              <a:off x="-457200" y="1525680"/>
              <a:ext cx="5313240" cy="4314600"/>
              <a:chOff x="-457200" y="1525680"/>
              <a:chExt cx="5313240" cy="4314600"/>
            </a:xfrm>
          </p:grpSpPr>
          <p:grpSp>
            <p:nvGrpSpPr>
              <p:cNvPr id="391" name=""/>
              <p:cNvGrpSpPr/>
              <p:nvPr/>
            </p:nvGrpSpPr>
            <p:grpSpPr>
              <a:xfrm>
                <a:off x="-457200" y="1525680"/>
                <a:ext cx="5103720" cy="4314600"/>
                <a:chOff x="-457200" y="1525680"/>
                <a:chExt cx="5103720" cy="431460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103320" y="1525680"/>
                  <a:ext cx="4543200" cy="4314600"/>
                  <a:chOff x="103320" y="1525680"/>
                  <a:chExt cx="4543200" cy="4314600"/>
                </a:xfrm>
              </p:grpSpPr>
              <p:pic>
                <p:nvPicPr>
                  <p:cNvPr id="393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03320" y="1525680"/>
                    <a:ext cx="4543200" cy="431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394" name=""/>
                  <p:cNvSpPr/>
                  <p:nvPr/>
                </p:nvSpPr>
                <p:spPr>
                  <a:xfrm>
                    <a:off x="416520" y="2000160"/>
                    <a:ext cx="2121840" cy="5101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marL="609480" indent="-609480">
                      <a:lnSpc>
                        <a:spcPct val="100000"/>
                      </a:lnSpc>
                      <a:spcBef>
                        <a:spcPts val="601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GB" sz="2400" spc="-1" strike="noStrike">
                        <a:solidFill>
                          <a:srgbClr val="ff0000"/>
                        </a:solidFill>
                        <a:latin typeface="Symbol"/>
                        <a:ea typeface="Symbol"/>
                      </a:rPr>
                      <a:t></a:t>
                    </a:r>
                    <a:r>
                      <a:rPr b="1" lang="en-GB" sz="2400" spc="-1" strike="noStrike" baseline="-25000">
                        <a:solidFill>
                          <a:srgbClr val="ff0000"/>
                        </a:solidFill>
                        <a:latin typeface="Comic Sans MS"/>
                      </a:rPr>
                      <a:t>CP</a:t>
                    </a:r>
                    <a:r>
                      <a:rPr b="0" lang="en-GB" sz="2400" spc="-1" strike="noStrike">
                        <a:solidFill>
                          <a:srgbClr val="ff0000"/>
                        </a:solidFill>
                        <a:latin typeface="Comic Sans MS"/>
                      </a:rPr>
                      <a:t>=0</a:t>
                    </a:r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>
                    <a:off x="1028880" y="4686120"/>
                    <a:ext cx="0" cy="570960"/>
                  </a:xfrm>
                  <a:prstGeom prst="line">
                    <a:avLst/>
                  </a:prstGeom>
                  <a:ln w="38160">
                    <a:solidFill>
                      <a:srgbClr val="ff00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99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96" name=""/>
                <p:cNvSpPr/>
                <p:nvPr/>
              </p:nvSpPr>
              <p:spPr>
                <a:xfrm>
                  <a:off x="-457200" y="5460840"/>
                  <a:ext cx="2637000" cy="3682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51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800" spc="-1" strike="noStrike">
                      <a:solidFill>
                        <a:srgbClr val="003399"/>
                      </a:solidFill>
                      <a:latin typeface="Comic Sans MS"/>
                    </a:rPr>
                    <a:t>preliminary</a:t>
                  </a:r>
                  <a:endParaRPr b="0" lang="en-US" sz="18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7" name=""/>
              <p:cNvSpPr/>
              <p:nvPr/>
            </p:nvSpPr>
            <p:spPr>
              <a:xfrm>
                <a:off x="2738520" y="1884240"/>
                <a:ext cx="211752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 algn="ctr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fr-FR" sz="18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398" name=""/>
            <p:cNvSpPr/>
            <p:nvPr/>
          </p:nvSpPr>
          <p:spPr>
            <a:xfrm>
              <a:off x="1938240" y="3335400"/>
              <a:ext cx="2739240" cy="901800"/>
            </a:xfrm>
            <a:prstGeom prst="rect">
              <a:avLst/>
            </a:prstGeom>
            <a:solidFill>
              <a:srgbClr val="f4e1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ff0000"/>
                  </a:solidFill>
                  <a:latin typeface="Comic Sans MS"/>
                </a:rPr>
                <a:t>New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400" spc="-1" strike="noStrike">
                  <a:solidFill>
                    <a:srgbClr val="000099"/>
                  </a:solidFill>
                  <a:latin typeface="Comic Sans MS"/>
                </a:rPr>
                <a:t>Old  Opt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399" name=""/>
          <p:cNvSpPr/>
          <p:nvPr/>
        </p:nvSpPr>
        <p:spPr>
          <a:xfrm>
            <a:off x="4592520" y="2624040"/>
            <a:ext cx="4432320" cy="12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(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3, 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0099"/>
                </a:solidFill>
                <a:latin typeface="Comic Sans MS"/>
              </a:rPr>
              <a:t>13</a:t>
            </a:r>
            <a:r>
              <a:rPr b="1" lang="en-US" sz="1600" spc="-1" strike="noStrike">
                <a:solidFill>
                  <a:srgbClr val="000099"/>
                </a:solidFill>
                <a:latin typeface="Comic Sans MS"/>
              </a:rPr>
              <a:t>)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US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US" sz="1600" spc="-1" strike="noStrike">
                <a:solidFill>
                  <a:srgbClr val="003399"/>
                </a:solidFill>
                <a:latin typeface="Comic Sans MS"/>
              </a:rPr>
              <a:t> and use SPL disappearance channel and spectrum analysis*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009680" y="5524560"/>
            <a:ext cx="563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izeable improvement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1" name="" descr=""/>
          <p:cNvPicPr/>
          <p:nvPr/>
        </p:nvPicPr>
        <p:blipFill>
          <a:blip r:embed="rId1"/>
          <a:stretch/>
        </p:blipFill>
        <p:spPr>
          <a:xfrm>
            <a:off x="622440" y="1200240"/>
            <a:ext cx="5130720" cy="5397480"/>
          </a:xfrm>
          <a:prstGeom prst="rect">
            <a:avLst/>
          </a:prstGeom>
          <a:ln w="0">
            <a:noFill/>
          </a:ln>
        </p:spPr>
      </p:pic>
      <p:grpSp>
        <p:nvGrpSpPr>
          <p:cNvPr id="402" name=""/>
          <p:cNvGrpSpPr/>
          <p:nvPr/>
        </p:nvGrpSpPr>
        <p:grpSpPr>
          <a:xfrm>
            <a:off x="4889520" y="1611360"/>
            <a:ext cx="2082960" cy="1077120"/>
            <a:chOff x="4889520" y="1611360"/>
            <a:chExt cx="2082960" cy="1077120"/>
          </a:xfrm>
        </p:grpSpPr>
        <p:sp>
          <p:nvSpPr>
            <p:cNvPr id="403" name=""/>
            <p:cNvSpPr/>
            <p:nvPr/>
          </p:nvSpPr>
          <p:spPr>
            <a:xfrm>
              <a:off x="4949640" y="1611360"/>
              <a:ext cx="439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011200" y="1812960"/>
              <a:ext cx="38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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889520" y="2282760"/>
              <a:ext cx="2082960" cy="405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~1/2 </a:t>
              </a: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 &amp; 1/2 K</a:t>
              </a:r>
              <a:r>
                <a:rPr b="0" lang="fr-FR" sz="1800" spc="-1" strike="noStrike" baseline="30000">
                  <a:solidFill>
                    <a:srgbClr val="000099"/>
                  </a:solidFill>
                  <a:latin typeface="Arial"/>
                </a:rPr>
                <a:t>0</a:t>
              </a:r>
              <a:r>
                <a:rPr b="0" lang="fr-FR" sz="1800" spc="-1" strike="noStrike" baseline="-25000">
                  <a:solidFill>
                    <a:srgbClr val="000099"/>
                  </a:solidFill>
                  <a:latin typeface="Arial"/>
                </a:rPr>
                <a:t>e3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4959360" y="2041560"/>
              <a:ext cx="446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99"/>
                  </a:solidFill>
                  <a:latin typeface="Symbol"/>
                  <a:ea typeface="Symbol"/>
                </a:rPr>
                <a:t></a:t>
              </a:r>
              <a:r>
                <a:rPr b="0" lang="fr-FR" sz="1800" spc="-1" strike="noStrike">
                  <a:solidFill>
                    <a:srgbClr val="000099"/>
                  </a:solidFill>
                  <a:latin typeface="Arial"/>
                </a:rPr>
                <a:t>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composi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08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613200" y="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1917360" y="1278000"/>
            <a:ext cx="30106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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1999080" y="3805200"/>
            <a:ext cx="28612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cusin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025240" y="429084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5033160" y="449280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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4940280" y="4962600"/>
            <a:ext cx="3327480" cy="405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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 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&amp; 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5036760" y="4724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Math1Mono"/>
                <a:ea typeface="Math1Mono"/>
              </a:rPr>
              <a:t>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17" name=""/>
          <p:cNvSpPr/>
          <p:nvPr/>
        </p:nvSpPr>
        <p:spPr>
          <a:xfrm>
            <a:off x="685800" y="5737320"/>
            <a:ext cx="582120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=-0.85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03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4, 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2215440" y="1087560"/>
            <a:ext cx="375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2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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, 8 yrs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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419" name=""/>
          <p:cNvGrpSpPr/>
          <p:nvPr/>
        </p:nvGrpSpPr>
        <p:grpSpPr>
          <a:xfrm>
            <a:off x="245160" y="1616040"/>
            <a:ext cx="9076320" cy="3936600"/>
            <a:chOff x="245160" y="1616040"/>
            <a:chExt cx="9076320" cy="3936600"/>
          </a:xfrm>
        </p:grpSpPr>
        <p:pic>
          <p:nvPicPr>
            <p:cNvPr id="420" name="" descr=""/>
            <p:cNvPicPr/>
            <p:nvPr/>
          </p:nvPicPr>
          <p:blipFill>
            <a:blip r:embed="rId1"/>
            <a:stretch/>
          </p:blipFill>
          <p:spPr>
            <a:xfrm>
              <a:off x="1386000" y="2025720"/>
              <a:ext cx="2647800" cy="2876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21" name=""/>
            <p:cNvGrpSpPr/>
            <p:nvPr/>
          </p:nvGrpSpPr>
          <p:grpSpPr>
            <a:xfrm>
              <a:off x="1213560" y="4840200"/>
              <a:ext cx="3036960" cy="691560"/>
              <a:chOff x="1213560" y="4840200"/>
              <a:chExt cx="3036960" cy="691560"/>
            </a:xfrm>
          </p:grpSpPr>
          <p:sp>
            <p:nvSpPr>
              <p:cNvPr id="422" name=""/>
              <p:cNvSpPr/>
              <p:nvPr/>
            </p:nvSpPr>
            <p:spPr>
              <a:xfrm>
                <a:off x="121356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2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18010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4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2445480" y="4840200"/>
                <a:ext cx="1805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06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588320" y="5091120"/>
                <a:ext cx="2301840" cy="44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sin</a:t>
                </a:r>
                <a:r>
                  <a:rPr b="1" lang="fr-FR" sz="20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</a:t>
                </a:r>
                <a:r>
                  <a:rPr b="1" lang="fr-FR" sz="2000" spc="-1" strike="noStrike" baseline="-25000">
                    <a:solidFill>
                      <a:srgbClr val="003399"/>
                    </a:solidFill>
                    <a:latin typeface="Comic Sans MS"/>
                  </a:rPr>
                  <a:t>13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245160" y="1930320"/>
              <a:ext cx="1803240" cy="2975760"/>
              <a:chOff x="245160" y="1930320"/>
              <a:chExt cx="1803240" cy="2975760"/>
            </a:xfrm>
          </p:grpSpPr>
          <p:sp>
            <p:nvSpPr>
              <p:cNvPr id="427" name=""/>
              <p:cNvSpPr/>
              <p:nvPr/>
            </p:nvSpPr>
            <p:spPr>
              <a:xfrm>
                <a:off x="438120" y="4568760"/>
                <a:ext cx="1581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1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45160" y="3755880"/>
                <a:ext cx="17546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-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532800" y="2843280"/>
                <a:ext cx="151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339840" y="1930320"/>
                <a:ext cx="1689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1600" spc="-1" strike="noStrike">
                    <a:solidFill>
                      <a:srgbClr val="003399"/>
                    </a:solidFill>
                    <a:latin typeface="Comic Sans MS"/>
                  </a:rPr>
                  <a:t>0.5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 rot="16200000">
                <a:off x="78840" y="3186000"/>
                <a:ext cx="173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fr-FR" sz="20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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432" name=""/>
            <p:cNvSpPr/>
            <p:nvPr/>
          </p:nvSpPr>
          <p:spPr>
            <a:xfrm>
              <a:off x="1346040" y="2509920"/>
              <a:ext cx="2740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</a:t>
              </a:r>
              <a:r>
                <a:rPr b="0" lang="en-GB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Fact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433" name=""/>
            <p:cNvGrpSpPr/>
            <p:nvPr/>
          </p:nvGrpSpPr>
          <p:grpSpPr>
            <a:xfrm>
              <a:off x="5361840" y="1996920"/>
              <a:ext cx="3959640" cy="3555720"/>
              <a:chOff x="5361840" y="1996920"/>
              <a:chExt cx="3959640" cy="3555720"/>
            </a:xfrm>
          </p:grpSpPr>
          <p:pic>
            <p:nvPicPr>
              <p:cNvPr id="434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591160" y="2033640"/>
                <a:ext cx="2590920" cy="287640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435" name=""/>
              <p:cNvGrpSpPr/>
              <p:nvPr/>
            </p:nvGrpSpPr>
            <p:grpSpPr>
              <a:xfrm>
                <a:off x="5361840" y="4861080"/>
                <a:ext cx="3036960" cy="691560"/>
                <a:chOff x="5361840" y="4861080"/>
                <a:chExt cx="3036960" cy="691560"/>
              </a:xfrm>
            </p:grpSpPr>
            <p:sp>
              <p:nvSpPr>
                <p:cNvPr id="436" name=""/>
                <p:cNvSpPr/>
                <p:nvPr/>
              </p:nvSpPr>
              <p:spPr>
                <a:xfrm>
                  <a:off x="536184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2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7" name=""/>
                <p:cNvSpPr/>
                <p:nvPr/>
              </p:nvSpPr>
              <p:spPr>
                <a:xfrm>
                  <a:off x="59493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4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6593760" y="4861080"/>
                  <a:ext cx="18050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06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>
                  <a:off x="5736600" y="5112000"/>
                  <a:ext cx="2301840" cy="4406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sin</a:t>
                  </a:r>
                  <a:r>
                    <a:rPr b="1" lang="fr-FR" sz="2000" spc="-1" strike="noStrike" baseline="30000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Comic Sans MS"/>
                    </a:rPr>
                    <a:t>2</a:t>
                  </a: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</a:t>
                  </a:r>
                  <a:r>
                    <a:rPr b="1" lang="fr-FR" sz="2000" spc="-1" strike="noStrike" baseline="-25000">
                      <a:solidFill>
                        <a:srgbClr val="003399"/>
                      </a:solidFill>
                      <a:latin typeface="Comic Sans MS"/>
                    </a:rPr>
                    <a:t>13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40" name=""/>
              <p:cNvGrpSpPr/>
              <p:nvPr/>
            </p:nvGrpSpPr>
            <p:grpSpPr>
              <a:xfrm>
                <a:off x="7517880" y="1996920"/>
                <a:ext cx="1803600" cy="2975760"/>
                <a:chOff x="7517880" y="1996920"/>
                <a:chExt cx="1803600" cy="2975760"/>
              </a:xfrm>
            </p:grpSpPr>
            <p:sp>
              <p:nvSpPr>
                <p:cNvPr id="441" name=""/>
                <p:cNvSpPr/>
                <p:nvPr/>
              </p:nvSpPr>
              <p:spPr>
                <a:xfrm>
                  <a:off x="7547040" y="4635360"/>
                  <a:ext cx="1581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1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66840" y="3822840"/>
                  <a:ext cx="175464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-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3" name=""/>
                <p:cNvSpPr/>
                <p:nvPr/>
              </p:nvSpPr>
              <p:spPr>
                <a:xfrm>
                  <a:off x="7517880" y="2909880"/>
                  <a:ext cx="151560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4" name=""/>
                <p:cNvSpPr/>
                <p:nvPr/>
              </p:nvSpPr>
              <p:spPr>
                <a:xfrm>
                  <a:off x="7537680" y="1996920"/>
                  <a:ext cx="1689120" cy="337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1600" spc="-1" strike="noStrike">
                      <a:solidFill>
                        <a:srgbClr val="003399"/>
                      </a:solidFill>
                      <a:latin typeface="Comic Sans MS"/>
                    </a:rPr>
                    <a:t>0.5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445" name=""/>
                <p:cNvSpPr/>
                <p:nvPr/>
              </p:nvSpPr>
              <p:spPr>
                <a:xfrm rot="16200000">
                  <a:off x="7880040" y="3238200"/>
                  <a:ext cx="17366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fr-FR" sz="2000" spc="-1" strike="noStrike">
                      <a:solidFill>
                        <a:srgbClr val="003399"/>
                      </a:solidFill>
                      <a:latin typeface="Symbol"/>
                      <a:ea typeface="Symbol"/>
                    </a:rPr>
                    <a:t></a:t>
                  </a:r>
                  <a:endParaRPr b="0" lang="en-US" sz="20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446" name=""/>
            <p:cNvSpPr/>
            <p:nvPr/>
          </p:nvSpPr>
          <p:spPr>
            <a:xfrm>
              <a:off x="5349600" y="2509920"/>
              <a:ext cx="309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“ </a:t>
              </a: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3.5 GeV opt.”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6137280" y="4141800"/>
              <a:ext cx="1796040" cy="33732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true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289400" y="4071960"/>
              <a:ext cx="2337120" cy="370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8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6251760" y="3216240"/>
              <a:ext cx="2997000" cy="3373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hierarchy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194000" y="2778120"/>
              <a:ext cx="1892520" cy="579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Wrong 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 algn="ctr">
                <a:lnSpc>
                  <a:spcPct val="100000"/>
                </a:lnSpc>
                <a:spcBef>
                  <a:spcPts val="4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3399"/>
                  </a:solidFill>
                  <a:latin typeface="Comic Sans MS"/>
                </a:rPr>
                <a:t>hierarchy and </a:t>
              </a:r>
              <a:r>
                <a:rPr b="0" lang="en-GB" sz="16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</a:t>
              </a:r>
              <a:r>
                <a:rPr b="0" lang="en-GB" sz="1600" spc="-1" strike="noStrike" baseline="-25000">
                  <a:solidFill>
                    <a:srgbClr val="003399"/>
                  </a:solidFill>
                  <a:latin typeface="Comic Sans MS"/>
                </a:rPr>
                <a:t>2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2376000" y="4379760"/>
              <a:ext cx="2199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90%C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162240" y="1847880"/>
              <a:ext cx="3237480" cy="6998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Solid: SPL+ATM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3399"/>
                  </a:solidFill>
                  <a:latin typeface="Comic Sans MS"/>
                </a:rPr>
                <a:t>Dashed: SPL onl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871920" y="1617840"/>
              <a:ext cx="2442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8000"/>
                  </a:solidFill>
                  <a:latin typeface="Comic Sans MS"/>
                </a:rPr>
                <a:t>NNN05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623560" y="1616040"/>
              <a:ext cx="3130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New Prelim.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455" name=""/>
          <p:cNvSpPr/>
          <p:nvPr/>
        </p:nvSpPr>
        <p:spPr>
          <a:xfrm>
            <a:off x="6043680" y="641844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cf. Th. Schwetz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6" name=""/>
          <p:cNvGraphicFramePr/>
          <p:nvPr/>
        </p:nvGraphicFramePr>
        <p:xfrm>
          <a:off x="1146240" y="1260360"/>
          <a:ext cx="7273800" cy="4200480"/>
        </p:xfrm>
        <a:graphic>
          <a:graphicData uri="http://schemas.openxmlformats.org/drawingml/2006/table">
            <a:tbl>
              <a:tblPr/>
              <a:tblGrid>
                <a:gridCol w="1638360"/>
                <a:gridCol w="1442880"/>
                <a:gridCol w="1386000"/>
                <a:gridCol w="1441440"/>
                <a:gridCol w="1365120"/>
              </a:tblGrid>
              <a:tr h="6573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4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4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4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1</a:t>
                      </a:r>
                      <a:endParaRPr b="0" lang="en-US" sz="1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3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14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49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5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8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22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7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1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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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19590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08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457" name=""/>
          <p:cNvSpPr/>
          <p:nvPr/>
        </p:nvSpPr>
        <p:spPr>
          <a:xfrm>
            <a:off x="3819600" y="744480"/>
            <a:ext cx="478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8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3,5 Mt.yrs (-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CDR2 block diagram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611280" y="2246400"/>
            <a:ext cx="8229600" cy="343836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5055840" y="3780000"/>
            <a:ext cx="29008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1-2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Eurisol, </a:t>
            </a:r>
            <a:r>
              <a:rPr b="0" lang="en-GB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5249880" y="4789440"/>
            <a:ext cx="2467080" cy="9018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-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SuperB, NuFa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6035760" y="3306600"/>
            <a:ext cx="228600" cy="57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 flipH="1">
            <a:off x="7589880" y="4998960"/>
            <a:ext cx="533520" cy="30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881440" y="1655640"/>
            <a:ext cx="5587560" cy="581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Comic Sans MS"/>
              </a:rPr>
              <a:t>CERN proton complex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906800" y="1736640"/>
            <a:ext cx="1387800" cy="158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/>
          <p:cNvPicPr/>
          <p:nvPr/>
        </p:nvPicPr>
        <p:blipFill>
          <a:blip r:embed="rId1"/>
          <a:srcRect l="2976" t="0" r="43607" b="43333"/>
          <a:stretch/>
        </p:blipFill>
        <p:spPr>
          <a:xfrm>
            <a:off x="542880" y="2214720"/>
            <a:ext cx="7626240" cy="335916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5645160" y="2773440"/>
            <a:ext cx="1198440" cy="549360"/>
          </a:xfrm>
          <a:solidFill>
            <a:srgbClr val="ccffff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3 MeV test place ready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2836800" y="4245120"/>
            <a:ext cx="1022400" cy="549000"/>
          </a:xfrm>
          <a:solidFill>
            <a:srgbClr val="ffe98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Linac4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254640" y="5603760"/>
            <a:ext cx="966960" cy="549360"/>
          </a:xfrm>
          <a:solidFill>
            <a:srgbClr val="ffc5e2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SPL approval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987480" y="1368360"/>
            <a:ext cx="2082600" cy="746280"/>
          </a:xfrm>
          <a:solidFill>
            <a:srgbClr val="ffff99"/>
          </a:solidFill>
          <a:ln w="12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rial"/>
              </a:rPr>
              <a:t>RF tests in SM 18 of prototype structures* for Linac4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2892600" y="5724360"/>
            <a:ext cx="933120" cy="365400"/>
          </a:xfrm>
          <a:prstGeom prst="rect">
            <a:avLst/>
          </a:prstGeom>
          <a:noFill/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99"/>
                </a:solidFill>
                <a:latin typeface="Verdana"/>
              </a:rPr>
              <a:t>CDR 2</a:t>
            </a:r>
            <a:endParaRPr b="0" lang="en-US" sz="19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819600" y="5025960"/>
            <a:ext cx="261720" cy="711360"/>
          </a:xfrm>
          <a:prstGeom prst="line">
            <a:avLst/>
          </a:prstGeom>
          <a:ln w="93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768240" y="328320"/>
            <a:ext cx="6819840" cy="71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lobal planning (R.G courtesy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</p:spTree>
  </p:cSld>
  <p:transition>
    <p:pull dir="lu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and </a:t>
            </a:r>
            <a:r>
              <a:rPr b="0" lang="fr-FR" sz="32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fr-FR" sz="32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ensitivity comput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66672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GLoBES v2.0.11 and M. Mezzetto SPL.glb file 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detector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Water Cerenkov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440 kt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at Fréjus (130 km from CERN)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Run: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1 year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4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2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+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+ 8 years </a:t>
            </a: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Computed with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=0 (standard benchmark) and </a:t>
            </a:r>
            <a:r>
              <a:rPr b="0" lang="en-US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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 = 0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other parameters…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2.5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003399"/>
              </a:buClr>
              <a:buFont typeface="Symbol" charset="2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US" sz="20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= 7.1 10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US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477" name=""/>
          <p:cNvSpPr/>
          <p:nvPr/>
        </p:nvSpPr>
        <p:spPr>
          <a:xfrm>
            <a:off x="4240080" y="3681360"/>
            <a:ext cx="166680" cy="498600"/>
          </a:xfrm>
          <a:custGeom>
            <a:avLst/>
            <a:gdLst>
              <a:gd name="textAreaLeft" fmla="*/ 22320 w 166680"/>
              <a:gd name="textAreaRight" fmla="*/ 144360 w 166680"/>
              <a:gd name="textAreaTop" fmla="*/ 87120 h 498600"/>
              <a:gd name="textAreaBottom" fmla="*/ 361440 h 49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430160" y="3522600"/>
            <a:ext cx="1291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duration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999040" y="3633840"/>
            <a:ext cx="273240" cy="1057320"/>
          </a:xfrm>
          <a:custGeom>
            <a:avLst/>
            <a:gdLst>
              <a:gd name="textAreaLeft" fmla="*/ 36360 w 273240"/>
              <a:gd name="textAreaRight" fmla="*/ 236880 w 273240"/>
              <a:gd name="textAreaTop" fmla="*/ 203040 h 1057320"/>
              <a:gd name="textAreaBottom" fmla="*/ 700200 h 105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1480565"/>
                <a:lnTo>
                  <a:pt x="13860" y="19665"/>
                </a:lnTo>
                <a:lnTo>
                  <a:pt x="0" y="17530"/>
                </a:lnTo>
                <a:lnTo>
                  <a:pt x="13860" y="11524"/>
                </a:lnTo>
                <a:lnTo>
                  <a:pt x="13860" y="14670"/>
                </a:lnTo>
                <a:arcTo wR="21600" hR="8303" stAng="1480565" swAng="-1332597"/>
                <a:lnTo>
                  <a:pt x="21466" y="9227"/>
                </a:lnTo>
                <a:arcTo wR="21600" hR="8303" stAng="-147968" swAng="-5252032"/>
                <a:close/>
              </a:path>
              <a:path fill="darkenLess" w="21600" h="21600">
                <a:moveTo>
                  <a:pt x="0" y="0"/>
                </a:moveTo>
                <a:arcTo wR="21600" hR="8303" stAng="-5400000" swAng="5400000"/>
                <a:lnTo>
                  <a:pt x="21600" y="10152"/>
                </a:lnTo>
                <a:arcTo wR="21600" hR="8303" stAng="0" swAng="-147968"/>
                <a:lnTo>
                  <a:pt x="21466" y="9227"/>
                </a:lnTo>
                <a:arcTo wR="21600" hR="8303" stAng="-147968" swAng="-5252032"/>
                <a:close/>
              </a:path>
            </a:pathLst>
          </a:custGeom>
          <a:solidFill>
            <a:srgbClr val="ffff00"/>
          </a:solidFill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6306480" y="3838680"/>
            <a:ext cx="209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ahoma"/>
              </a:rPr>
              <a:t>Same statistic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3848040" y="5376960"/>
            <a:ext cx="457200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23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1.0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3870720" y="5710320"/>
            <a:ext cx="19465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2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sin</a:t>
            </a:r>
            <a:r>
              <a:rPr b="0" lang="en-US" sz="2000" spc="-1" strike="noStrike" baseline="30000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000099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Tahoma"/>
              </a:rPr>
              <a:t>12</a:t>
            </a:r>
            <a:r>
              <a:rPr b="0" lang="en-US" sz="2000" spc="-1" strike="noStrike">
                <a:solidFill>
                  <a:srgbClr val="000099"/>
                </a:solidFill>
                <a:latin typeface="Tahoma"/>
              </a:rPr>
              <a:t> = 0.82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5457600" cy="508644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2411280" y="414972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2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 rot="16200000">
            <a:off x="1519560" y="3385440"/>
            <a:ext cx="1224000" cy="736200"/>
          </a:xfrm>
          <a:custGeom>
            <a:avLst/>
            <a:gdLst>
              <a:gd name="textAreaLeft" fmla="*/ 191160 w 1224000"/>
              <a:gd name="textAreaRight" fmla="*/ 1071000 w 1224000"/>
              <a:gd name="textAreaTop" fmla="*/ 183960 h 736200"/>
              <a:gd name="textAreaBottom" fmla="*/ 552240 h 736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6200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 rot="18694800">
            <a:off x="2481480" y="3256560"/>
            <a:ext cx="1387440" cy="1284480"/>
          </a:xfrm>
          <a:custGeom>
            <a:avLst/>
            <a:gdLst>
              <a:gd name="textAreaLeft" fmla="*/ 216720 w 1387440"/>
              <a:gd name="textAreaRight" fmla="*/ 1214280 w 1387440"/>
              <a:gd name="textAreaTop" fmla="*/ 321120 h 1284480"/>
              <a:gd name="textAreaBottom" fmla="*/ 963360 h 1284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ff0000"/>
              </a:gs>
              <a:gs pos="100000">
                <a:srgbClr val="ffff00"/>
              </a:gs>
            </a:gsLst>
            <a:lin ang="13704000"/>
          </a:gra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99"/>
                </a:solidFill>
                <a:latin typeface="Arial"/>
              </a:rPr>
              <a:t>x1/130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744560" y="193356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1837080" y="450216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290480" y="1722600"/>
            <a:ext cx="994320" cy="99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1/3 K+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4548600" y="4502160"/>
            <a:ext cx="38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1748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832040" y="264780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4058280" y="268272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1465200" y="529128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3796200" y="527544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Flux @ 130km: +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324000" y="1413000"/>
            <a:ext cx="5543280" cy="5067000"/>
            <a:chOff x="324000" y="1413000"/>
            <a:chExt cx="5543280" cy="5067000"/>
          </a:xfrm>
        </p:grpSpPr>
        <p:pic>
          <p:nvPicPr>
            <p:cNvPr id="499" name="" descr=""/>
            <p:cNvPicPr/>
            <p:nvPr/>
          </p:nvPicPr>
          <p:blipFill>
            <a:blip r:embed="rId1"/>
            <a:stretch/>
          </p:blipFill>
          <p:spPr>
            <a:xfrm>
              <a:off x="324000" y="1413000"/>
              <a:ext cx="5543280" cy="5067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0" name=""/>
            <p:cNvSpPr/>
            <p:nvPr/>
          </p:nvSpPr>
          <p:spPr>
            <a:xfrm>
              <a:off x="2411280" y="2494080"/>
              <a:ext cx="1222560" cy="736200"/>
            </a:xfrm>
            <a:custGeom>
              <a:avLst/>
              <a:gdLst>
                <a:gd name="textAreaLeft" fmla="*/ 190800 w 1222560"/>
                <a:gd name="textAreaRight" fmla="*/ 1069920 w 1222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108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4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 rot="5400000">
              <a:off x="1611360" y="3276720"/>
              <a:ext cx="1152360" cy="736200"/>
            </a:xfrm>
            <a:custGeom>
              <a:avLst/>
              <a:gdLst>
                <a:gd name="textAreaLeft" fmla="*/ 180000 w 1152360"/>
                <a:gd name="textAreaRight" fmla="*/ 1008360 w 11523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540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17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 rot="2547600">
              <a:off x="2313000" y="3273480"/>
              <a:ext cx="1438560" cy="736200"/>
            </a:xfrm>
            <a:custGeom>
              <a:avLst/>
              <a:gdLst>
                <a:gd name="textAreaLeft" fmla="*/ 224640 w 1438560"/>
                <a:gd name="textAreaRight" fmla="*/ 1258920 w 1438560"/>
                <a:gd name="textAreaTop" fmla="*/ 183960 h 736200"/>
                <a:gd name="textAreaBottom" fmla="*/ 552240 h 73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/>
                </a:gs>
                <a:gs pos="100000">
                  <a:srgbClr val="ffff00"/>
                </a:gs>
              </a:gsLst>
              <a:lin ang="8250000"/>
            </a:gra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800" spc="-1" strike="noStrike">
                  <a:solidFill>
                    <a:srgbClr val="000099"/>
                  </a:solidFill>
                  <a:latin typeface="Arial"/>
                </a:rPr>
                <a:t>x1/3000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03" name=""/>
          <p:cNvSpPr/>
          <p:nvPr/>
        </p:nvSpPr>
        <p:spPr>
          <a:xfrm>
            <a:off x="2003400" y="2182680"/>
            <a:ext cx="43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837080" y="5216400"/>
            <a:ext cx="38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4794120" y="2219400"/>
            <a:ext cx="44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281840" y="5024520"/>
            <a:ext cx="1067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</a:t>
            </a: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1/2 K</a:t>
            </a:r>
            <a:r>
              <a:rPr b="0" lang="fr-FR" sz="1800" spc="-1" strike="noStrike" baseline="30000">
                <a:solidFill>
                  <a:srgbClr val="000099"/>
                </a:solidFill>
                <a:latin typeface="Arial"/>
              </a:rPr>
              <a:t>0</a:t>
            </a:r>
            <a:r>
              <a:rPr b="0" lang="fr-FR" sz="1800" spc="-1" strike="noStrike" baseline="-25000">
                <a:solidFill>
                  <a:srgbClr val="000099"/>
                </a:solidFill>
                <a:latin typeface="Arial"/>
              </a:rPr>
              <a:t>e3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812880" y="930240"/>
            <a:ext cx="40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99"/>
                </a:solidFill>
                <a:latin typeface="Arial"/>
              </a:rPr>
              <a:t>http://opera.web.lal.in2p3.fr/horn/Simu/index.htm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6230520" y="3213000"/>
            <a:ext cx="252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3.5GeV Kinetic p bea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Arial"/>
              </a:rPr>
              <a:t>~800MeV</a:t>
            </a:r>
            <a:r>
              <a:rPr b="0" lang="fr-FR" sz="1800" spc="-1" strike="noStrike">
                <a:solidFill>
                  <a:srgbClr val="000099"/>
                </a:solidFill>
                <a:latin typeface="Symbol"/>
                <a:ea typeface="Symbol"/>
              </a:rPr>
              <a:t></a:t>
            </a: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focusing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40m decay tunnel length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imes New Roman"/>
              </a:rPr>
              <a:t>2m    decay tunnel radiu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1463760" y="1419120"/>
            <a:ext cx="78264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690000" y="1454040"/>
            <a:ext cx="182916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165320" y="4049640"/>
            <a:ext cx="90972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3632760" y="3938760"/>
            <a:ext cx="2083680" cy="78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Symbol"/>
                <a:ea typeface="Symbol"/>
              </a:rPr>
              <a:t></a:t>
            </a:r>
            <a:r>
              <a:rPr b="0" lang="en-GB" sz="4000" spc="-1" strike="noStrike" baseline="-25000">
                <a:solidFill>
                  <a:srgbClr val="003399"/>
                </a:solidFill>
                <a:latin typeface="Comic Sans MS"/>
              </a:rPr>
              <a:t>e</a:t>
            </a:r>
            <a:endParaRPr b="0" lang="en-US" sz="4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Mass hierarchy sensitivit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14" name=""/>
          <p:cNvGrpSpPr/>
          <p:nvPr/>
        </p:nvGrpSpPr>
        <p:grpSpPr>
          <a:xfrm>
            <a:off x="1065240" y="5133960"/>
            <a:ext cx="2529000" cy="581400"/>
            <a:chOff x="1065240" y="5133960"/>
            <a:chExt cx="2529000" cy="581400"/>
          </a:xfrm>
        </p:grpSpPr>
        <p:sp>
          <p:nvSpPr>
            <p:cNvPr id="515" name=""/>
            <p:cNvSpPr/>
            <p:nvPr/>
          </p:nvSpPr>
          <p:spPr>
            <a:xfrm flipV="1">
              <a:off x="1065240" y="5419440"/>
              <a:ext cx="763560" cy="14040"/>
            </a:xfrm>
            <a:prstGeom prst="line">
              <a:avLst/>
            </a:prstGeom>
            <a:ln w="3816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1297080" y="5133960"/>
              <a:ext cx="2297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.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1066680" y="5506920"/>
            <a:ext cx="2324880" cy="581400"/>
            <a:chOff x="1066680" y="5506920"/>
            <a:chExt cx="2324880" cy="581400"/>
          </a:xfrm>
        </p:grpSpPr>
        <p:sp>
          <p:nvSpPr>
            <p:cNvPr id="518" name=""/>
            <p:cNvSpPr/>
            <p:nvPr/>
          </p:nvSpPr>
          <p:spPr>
            <a:xfrm flipV="1">
              <a:off x="1066680" y="5792760"/>
              <a:ext cx="763560" cy="14400"/>
            </a:xfrm>
            <a:prstGeom prst="line">
              <a:avLst/>
            </a:prstGeom>
            <a:ln w="381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299960" y="5506920"/>
              <a:ext cx="209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20" name=""/>
          <p:cNvGrpSpPr/>
          <p:nvPr/>
        </p:nvGrpSpPr>
        <p:grpSpPr>
          <a:xfrm>
            <a:off x="1036800" y="5878440"/>
            <a:ext cx="3344760" cy="581400"/>
            <a:chOff x="1036800" y="5878440"/>
            <a:chExt cx="3344760" cy="581400"/>
          </a:xfrm>
        </p:grpSpPr>
        <p:sp>
          <p:nvSpPr>
            <p:cNvPr id="521" name=""/>
            <p:cNvSpPr/>
            <p:nvPr/>
          </p:nvSpPr>
          <p:spPr>
            <a:xfrm>
              <a:off x="1036800" y="6005520"/>
              <a:ext cx="738000" cy="3952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1269000" y="5878440"/>
              <a:ext cx="3112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Atm+LBL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23" name=""/>
          <p:cNvSpPr/>
          <p:nvPr/>
        </p:nvSpPr>
        <p:spPr>
          <a:xfrm>
            <a:off x="4753080" y="5369040"/>
            <a:ext cx="40798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2K-II takes benefit of more matter effect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361800" y="1704960"/>
            <a:ext cx="8947800" cy="3485160"/>
            <a:chOff x="361800" y="1704960"/>
            <a:chExt cx="8947800" cy="3485160"/>
          </a:xfrm>
        </p:grpSpPr>
        <p:pic>
          <p:nvPicPr>
            <p:cNvPr id="525" name="" descr=""/>
            <p:cNvPicPr/>
            <p:nvPr/>
          </p:nvPicPr>
          <p:blipFill>
            <a:blip r:embed="rId1"/>
            <a:stretch/>
          </p:blipFill>
          <p:spPr>
            <a:xfrm>
              <a:off x="361800" y="1704960"/>
              <a:ext cx="8420400" cy="344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6" name=""/>
            <p:cNvSpPr/>
            <p:nvPr/>
          </p:nvSpPr>
          <p:spPr>
            <a:xfrm>
              <a:off x="7336800" y="4791240"/>
              <a:ext cx="1972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3399"/>
                  </a:solidFill>
                  <a:latin typeface="Comic Sans MS"/>
                </a:rPr>
                <a:t>Th. S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98320" y="923760"/>
            <a:ext cx="5459760" cy="515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luxes comparison @ 130k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3009600" y="4348080"/>
            <a:ext cx="6191280" cy="730800"/>
            <a:chOff x="3009600" y="4348080"/>
            <a:chExt cx="6191280" cy="730800"/>
          </a:xfrm>
        </p:grpSpPr>
        <p:sp>
          <p:nvSpPr>
            <p:cNvPr id="138" name=""/>
            <p:cNvSpPr/>
            <p:nvPr/>
          </p:nvSpPr>
          <p:spPr>
            <a:xfrm>
              <a:off x="3532680" y="4348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275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0066ff"/>
                  </a:solidFill>
                  <a:latin typeface="Arial"/>
                </a:rPr>
                <a:t>4.5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1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009600" y="4556160"/>
              <a:ext cx="996840" cy="0"/>
            </a:xfrm>
            <a:prstGeom prst="line">
              <a:avLst/>
            </a:prstGeom>
            <a:ln w="38160">
              <a:solidFill>
                <a:srgbClr val="0066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527800" y="4680000"/>
              <a:ext cx="3673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Old 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Fact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3236400" y="3016080"/>
            <a:ext cx="5945760" cy="762120"/>
            <a:chOff x="3236400" y="3016080"/>
            <a:chExt cx="5945760" cy="762120"/>
          </a:xfrm>
        </p:grpSpPr>
        <p:sp>
          <p:nvSpPr>
            <p:cNvPr id="142" name=""/>
            <p:cNvSpPr/>
            <p:nvPr/>
          </p:nvSpPr>
          <p:spPr>
            <a:xfrm>
              <a:off x="3520080" y="3016080"/>
              <a:ext cx="5023800" cy="4406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lt;E</a:t>
              </a:r>
              <a:r>
                <a:rPr b="1" lang="fr-FR" sz="2000" spc="-1" strike="noStrike" baseline="-25000">
                  <a:solidFill>
                    <a:srgbClr val="000099"/>
                  </a:solidFill>
                  <a:latin typeface="Symbol"/>
                  <a:ea typeface="Symbol"/>
                </a:rPr>
                <a:t>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&gt; ~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300 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MeV,  </a:t>
              </a:r>
              <a:r>
                <a:rPr b="1" lang="fr-FR" sz="2000" spc="-1" strike="noStrike">
                  <a:solidFill>
                    <a:srgbClr val="ff0000"/>
                  </a:solidFill>
                  <a:latin typeface="Arial"/>
                </a:rPr>
                <a:t>1.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 10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1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m</a:t>
              </a:r>
              <a:r>
                <a:rPr b="1" lang="fr-FR" sz="2000" spc="-1" strike="noStrike" baseline="30000">
                  <a:solidFill>
                    <a:srgbClr val="000099"/>
                  </a:solidFill>
                  <a:latin typeface="Arial"/>
                </a:rPr>
                <a:t>2</a:t>
              </a:r>
              <a:r>
                <a:rPr b="1" lang="fr-FR" sz="2000" spc="-1" strike="noStrike">
                  <a:solidFill>
                    <a:srgbClr val="000099"/>
                  </a:solidFill>
                  <a:latin typeface="Arial"/>
                </a:rPr>
                <a:t>/yr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3236400" y="3196440"/>
              <a:ext cx="698760" cy="270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280120" y="3379320"/>
              <a:ext cx="3902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ff0000"/>
                  </a:solidFill>
                  <a:latin typeface="Comic Sans MS"/>
                </a:rPr>
                <a:t>3.5GeV SPL optimum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45" name=""/>
          <p:cNvSpPr/>
          <p:nvPr/>
        </p:nvSpPr>
        <p:spPr>
          <a:xfrm>
            <a:off x="6748560" y="2550960"/>
            <a:ext cx="485640" cy="349560"/>
          </a:xfrm>
          <a:prstGeom prst="up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93000" y="2016000"/>
            <a:ext cx="2609640" cy="5101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~95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fr-FR" sz="2400" spc="-1" strike="noStrike" baseline="30000">
                <a:solidFill>
                  <a:srgbClr val="003399"/>
                </a:solidFill>
                <a:latin typeface="Comic Sans MS"/>
              </a:rPr>
              <a:t>CC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/kT/yr*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569560" y="6191280"/>
            <a:ext cx="411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3399"/>
                </a:solidFill>
                <a:latin typeface="Comic Sans MS"/>
              </a:rPr>
              <a:t>*: Lipari x-sect. (see later)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99040" y="6029280"/>
            <a:ext cx="5627160" cy="5205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Reflector: 50% of the Flux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Evolution of the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1"/>
          <a:stretch/>
        </p:blipFill>
        <p:spPr>
          <a:xfrm>
            <a:off x="85680" y="1428840"/>
            <a:ext cx="8972640" cy="457200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367200" y="1049400"/>
            <a:ext cx="433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water </a:t>
            </a:r>
            <a:r>
              <a:rPr b="0" lang="en-US" sz="2000" spc="-1" strike="noStrike">
                <a:solidFill>
                  <a:srgbClr val="003399"/>
                </a:solidFill>
                <a:latin typeface="Times New Roman"/>
                <a:ea typeface="Times New Roman"/>
              </a:rPr>
              <a:t>Č,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  <a:ea typeface="Times New Roman"/>
              </a:rPr>
              <a:t>4MW SPL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1510560" y="5764320"/>
            <a:ext cx="649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significantly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774720" y="3403440"/>
            <a:ext cx="4076640" cy="517680"/>
          </a:xfrm>
          <a:custGeom>
            <a:avLst/>
            <a:gdLst/>
            <a:ahLst/>
            <a:rect l="l" t="t" r="r" b="b"/>
            <a:pathLst>
              <a:path w="2568" h="326">
                <a:moveTo>
                  <a:pt x="0" y="144"/>
                </a:moveTo>
                <a:cubicBezTo>
                  <a:pt x="11" y="151"/>
                  <a:pt x="43" y="171"/>
                  <a:pt x="68" y="184"/>
                </a:cubicBezTo>
                <a:cubicBezTo>
                  <a:pt x="93" y="197"/>
                  <a:pt x="123" y="213"/>
                  <a:pt x="148" y="224"/>
                </a:cubicBezTo>
                <a:cubicBezTo>
                  <a:pt x="173" y="235"/>
                  <a:pt x="197" y="245"/>
                  <a:pt x="216" y="252"/>
                </a:cubicBezTo>
                <a:cubicBezTo>
                  <a:pt x="235" y="259"/>
                  <a:pt x="245" y="259"/>
                  <a:pt x="264" y="264"/>
                </a:cubicBezTo>
                <a:cubicBezTo>
                  <a:pt x="283" y="269"/>
                  <a:pt x="309" y="279"/>
                  <a:pt x="332" y="284"/>
                </a:cubicBezTo>
                <a:cubicBezTo>
                  <a:pt x="355" y="289"/>
                  <a:pt x="378" y="291"/>
                  <a:pt x="400" y="296"/>
                </a:cubicBezTo>
                <a:cubicBezTo>
                  <a:pt x="422" y="301"/>
                  <a:pt x="441" y="307"/>
                  <a:pt x="464" y="312"/>
                </a:cubicBezTo>
                <a:cubicBezTo>
                  <a:pt x="487" y="317"/>
                  <a:pt x="519" y="322"/>
                  <a:pt x="540" y="324"/>
                </a:cubicBezTo>
                <a:cubicBezTo>
                  <a:pt x="561" y="326"/>
                  <a:pt x="573" y="324"/>
                  <a:pt x="592" y="324"/>
                </a:cubicBezTo>
                <a:cubicBezTo>
                  <a:pt x="611" y="324"/>
                  <a:pt x="633" y="325"/>
                  <a:pt x="652" y="324"/>
                </a:cubicBezTo>
                <a:cubicBezTo>
                  <a:pt x="671" y="323"/>
                  <a:pt x="687" y="323"/>
                  <a:pt x="708" y="320"/>
                </a:cubicBezTo>
                <a:cubicBezTo>
                  <a:pt x="729" y="317"/>
                  <a:pt x="755" y="312"/>
                  <a:pt x="776" y="308"/>
                </a:cubicBezTo>
                <a:cubicBezTo>
                  <a:pt x="797" y="304"/>
                  <a:pt x="809" y="301"/>
                  <a:pt x="832" y="296"/>
                </a:cubicBezTo>
                <a:cubicBezTo>
                  <a:pt x="855" y="291"/>
                  <a:pt x="885" y="288"/>
                  <a:pt x="912" y="280"/>
                </a:cubicBezTo>
                <a:cubicBezTo>
                  <a:pt x="939" y="272"/>
                  <a:pt x="968" y="257"/>
                  <a:pt x="992" y="248"/>
                </a:cubicBezTo>
                <a:cubicBezTo>
                  <a:pt x="1016" y="239"/>
                  <a:pt x="1033" y="236"/>
                  <a:pt x="1056" y="228"/>
                </a:cubicBezTo>
                <a:cubicBezTo>
                  <a:pt x="1079" y="220"/>
                  <a:pt x="1101" y="211"/>
                  <a:pt x="1132" y="200"/>
                </a:cubicBezTo>
                <a:cubicBezTo>
                  <a:pt x="1163" y="189"/>
                  <a:pt x="1211" y="175"/>
                  <a:pt x="1240" y="164"/>
                </a:cubicBezTo>
                <a:cubicBezTo>
                  <a:pt x="1269" y="153"/>
                  <a:pt x="1280" y="145"/>
                  <a:pt x="1308" y="136"/>
                </a:cubicBezTo>
                <a:cubicBezTo>
                  <a:pt x="1336" y="127"/>
                  <a:pt x="1381" y="115"/>
                  <a:pt x="1408" y="108"/>
                </a:cubicBezTo>
                <a:cubicBezTo>
                  <a:pt x="1435" y="101"/>
                  <a:pt x="1449" y="99"/>
                  <a:pt x="1472" y="92"/>
                </a:cubicBezTo>
                <a:cubicBezTo>
                  <a:pt x="1495" y="85"/>
                  <a:pt x="1525" y="74"/>
                  <a:pt x="1544" y="68"/>
                </a:cubicBezTo>
                <a:cubicBezTo>
                  <a:pt x="1563" y="62"/>
                  <a:pt x="1573" y="59"/>
                  <a:pt x="1588" y="56"/>
                </a:cubicBezTo>
                <a:cubicBezTo>
                  <a:pt x="1603" y="53"/>
                  <a:pt x="1613" y="53"/>
                  <a:pt x="1632" y="48"/>
                </a:cubicBezTo>
                <a:cubicBezTo>
                  <a:pt x="1651" y="43"/>
                  <a:pt x="1684" y="34"/>
                  <a:pt x="1704" y="28"/>
                </a:cubicBezTo>
                <a:cubicBezTo>
                  <a:pt x="1724" y="22"/>
                  <a:pt x="1737" y="16"/>
                  <a:pt x="1752" y="12"/>
                </a:cubicBezTo>
                <a:cubicBezTo>
                  <a:pt x="1767" y="8"/>
                  <a:pt x="1779" y="5"/>
                  <a:pt x="1796" y="4"/>
                </a:cubicBezTo>
                <a:cubicBezTo>
                  <a:pt x="1813" y="3"/>
                  <a:pt x="1837" y="5"/>
                  <a:pt x="1856" y="4"/>
                </a:cubicBezTo>
                <a:cubicBezTo>
                  <a:pt x="1875" y="3"/>
                  <a:pt x="1889" y="0"/>
                  <a:pt x="1912" y="0"/>
                </a:cubicBezTo>
                <a:cubicBezTo>
                  <a:pt x="1935" y="0"/>
                  <a:pt x="1967" y="3"/>
                  <a:pt x="1996" y="4"/>
                </a:cubicBezTo>
                <a:cubicBezTo>
                  <a:pt x="2025" y="5"/>
                  <a:pt x="2056" y="4"/>
                  <a:pt x="2084" y="8"/>
                </a:cubicBezTo>
                <a:cubicBezTo>
                  <a:pt x="2112" y="12"/>
                  <a:pt x="2137" y="23"/>
                  <a:pt x="2164" y="28"/>
                </a:cubicBezTo>
                <a:cubicBezTo>
                  <a:pt x="2191" y="33"/>
                  <a:pt x="2223" y="35"/>
                  <a:pt x="2248" y="40"/>
                </a:cubicBezTo>
                <a:cubicBezTo>
                  <a:pt x="2273" y="45"/>
                  <a:pt x="2286" y="53"/>
                  <a:pt x="2312" y="60"/>
                </a:cubicBezTo>
                <a:cubicBezTo>
                  <a:pt x="2338" y="67"/>
                  <a:pt x="2369" y="72"/>
                  <a:pt x="2404" y="84"/>
                </a:cubicBezTo>
                <a:cubicBezTo>
                  <a:pt x="2439" y="96"/>
                  <a:pt x="2497" y="120"/>
                  <a:pt x="2524" y="132"/>
                </a:cubicBezTo>
                <a:cubicBezTo>
                  <a:pt x="2551" y="144"/>
                  <a:pt x="2560" y="150"/>
                  <a:pt x="2568" y="156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68240" y="3930480"/>
            <a:ext cx="4083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781200" y="3506760"/>
            <a:ext cx="4051080" cy="897120"/>
          </a:xfrm>
          <a:custGeom>
            <a:avLst/>
            <a:gdLst/>
            <a:ahLst/>
            <a:rect l="l" t="t" r="r" b="b"/>
            <a:pathLst>
              <a:path w="2552" h="565">
                <a:moveTo>
                  <a:pt x="0" y="259"/>
                </a:moveTo>
                <a:cubicBezTo>
                  <a:pt x="22" y="278"/>
                  <a:pt x="44" y="297"/>
                  <a:pt x="68" y="315"/>
                </a:cubicBezTo>
                <a:cubicBezTo>
                  <a:pt x="92" y="333"/>
                  <a:pt x="111" y="347"/>
                  <a:pt x="144" y="367"/>
                </a:cubicBezTo>
                <a:cubicBezTo>
                  <a:pt x="177" y="387"/>
                  <a:pt x="231" y="414"/>
                  <a:pt x="268" y="435"/>
                </a:cubicBezTo>
                <a:cubicBezTo>
                  <a:pt x="305" y="456"/>
                  <a:pt x="327" y="475"/>
                  <a:pt x="364" y="491"/>
                </a:cubicBezTo>
                <a:cubicBezTo>
                  <a:pt x="401" y="507"/>
                  <a:pt x="457" y="520"/>
                  <a:pt x="488" y="531"/>
                </a:cubicBezTo>
                <a:cubicBezTo>
                  <a:pt x="519" y="542"/>
                  <a:pt x="526" y="550"/>
                  <a:pt x="552" y="555"/>
                </a:cubicBezTo>
                <a:cubicBezTo>
                  <a:pt x="578" y="560"/>
                  <a:pt x="615" y="562"/>
                  <a:pt x="644" y="563"/>
                </a:cubicBezTo>
                <a:cubicBezTo>
                  <a:pt x="673" y="564"/>
                  <a:pt x="701" y="565"/>
                  <a:pt x="728" y="563"/>
                </a:cubicBezTo>
                <a:cubicBezTo>
                  <a:pt x="755" y="561"/>
                  <a:pt x="780" y="556"/>
                  <a:pt x="808" y="551"/>
                </a:cubicBezTo>
                <a:cubicBezTo>
                  <a:pt x="836" y="546"/>
                  <a:pt x="863" y="540"/>
                  <a:pt x="896" y="531"/>
                </a:cubicBezTo>
                <a:cubicBezTo>
                  <a:pt x="929" y="522"/>
                  <a:pt x="969" y="516"/>
                  <a:pt x="1008" y="495"/>
                </a:cubicBezTo>
                <a:cubicBezTo>
                  <a:pt x="1047" y="474"/>
                  <a:pt x="1090" y="434"/>
                  <a:pt x="1128" y="407"/>
                </a:cubicBezTo>
                <a:cubicBezTo>
                  <a:pt x="1166" y="380"/>
                  <a:pt x="1199" y="354"/>
                  <a:pt x="1236" y="331"/>
                </a:cubicBezTo>
                <a:cubicBezTo>
                  <a:pt x="1273" y="308"/>
                  <a:pt x="1312" y="292"/>
                  <a:pt x="1352" y="267"/>
                </a:cubicBezTo>
                <a:cubicBezTo>
                  <a:pt x="1392" y="242"/>
                  <a:pt x="1428" y="211"/>
                  <a:pt x="1476" y="179"/>
                </a:cubicBezTo>
                <a:cubicBezTo>
                  <a:pt x="1524" y="147"/>
                  <a:pt x="1595" y="100"/>
                  <a:pt x="1640" y="75"/>
                </a:cubicBezTo>
                <a:cubicBezTo>
                  <a:pt x="1685" y="50"/>
                  <a:pt x="1722" y="40"/>
                  <a:pt x="1748" y="31"/>
                </a:cubicBezTo>
                <a:cubicBezTo>
                  <a:pt x="1774" y="22"/>
                  <a:pt x="1779" y="23"/>
                  <a:pt x="1796" y="19"/>
                </a:cubicBezTo>
                <a:cubicBezTo>
                  <a:pt x="1813" y="15"/>
                  <a:pt x="1824" y="9"/>
                  <a:pt x="1848" y="7"/>
                </a:cubicBezTo>
                <a:cubicBezTo>
                  <a:pt x="1872" y="5"/>
                  <a:pt x="1909" y="8"/>
                  <a:pt x="1940" y="7"/>
                </a:cubicBezTo>
                <a:cubicBezTo>
                  <a:pt x="1971" y="6"/>
                  <a:pt x="2000" y="0"/>
                  <a:pt x="2032" y="3"/>
                </a:cubicBezTo>
                <a:cubicBezTo>
                  <a:pt x="2064" y="6"/>
                  <a:pt x="2101" y="16"/>
                  <a:pt x="2132" y="23"/>
                </a:cubicBezTo>
                <a:cubicBezTo>
                  <a:pt x="2163" y="30"/>
                  <a:pt x="2193" y="36"/>
                  <a:pt x="2220" y="47"/>
                </a:cubicBezTo>
                <a:cubicBezTo>
                  <a:pt x="2247" y="58"/>
                  <a:pt x="2266" y="72"/>
                  <a:pt x="2296" y="87"/>
                </a:cubicBezTo>
                <a:cubicBezTo>
                  <a:pt x="2326" y="102"/>
                  <a:pt x="2365" y="120"/>
                  <a:pt x="2400" y="139"/>
                </a:cubicBezTo>
                <a:cubicBezTo>
                  <a:pt x="2435" y="158"/>
                  <a:pt x="2479" y="185"/>
                  <a:pt x="2504" y="203"/>
                </a:cubicBezTo>
                <a:cubicBezTo>
                  <a:pt x="2529" y="221"/>
                  <a:pt x="2540" y="234"/>
                  <a:pt x="2552" y="247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5 years positive focusing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535" name=""/>
          <p:cNvGrpSpPr/>
          <p:nvPr/>
        </p:nvGrpSpPr>
        <p:grpSpPr>
          <a:xfrm>
            <a:off x="-91440" y="5562720"/>
            <a:ext cx="8800200" cy="926280"/>
            <a:chOff x="-91440" y="5562720"/>
            <a:chExt cx="8800200" cy="926280"/>
          </a:xfrm>
        </p:grpSpPr>
        <p:sp>
          <p:nvSpPr>
            <p:cNvPr id="536" name=""/>
            <p:cNvSpPr/>
            <p:nvPr/>
          </p:nvSpPr>
          <p:spPr>
            <a:xfrm>
              <a:off x="-9144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5641920" y="5729400"/>
              <a:ext cx="306684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7.1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4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434040" y="5562720"/>
              <a:ext cx="1783800" cy="92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Tahoma"/>
                </a:rPr>
                <a:t>k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 = 4.5G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GB" sz="24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GB" sz="2400" spc="-1" strike="noStrike">
                  <a:solidFill>
                    <a:srgbClr val="000000"/>
                  </a:solidFill>
                  <a:latin typeface="Tahoma"/>
                </a:rPr>
                <a:t>=300MeV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780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702000" y="5562720"/>
              <a:ext cx="270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tunnel : 40m long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ahoma"/>
                </a:rPr>
                <a:t>2m radius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352680" y="5638680"/>
              <a:ext cx="7632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762120" y="5638680"/>
              <a:ext cx="75960" cy="7621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ff00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43" name=""/>
          <p:cNvSpPr/>
          <p:nvPr/>
        </p:nvSpPr>
        <p:spPr>
          <a:xfrm>
            <a:off x="889200" y="99072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4738680" y="990720"/>
            <a:ext cx="4011480" cy="4615560"/>
            <a:chOff x="4738680" y="990720"/>
            <a:chExt cx="4011480" cy="4615560"/>
          </a:xfrm>
        </p:grpSpPr>
        <p:sp>
          <p:nvSpPr>
            <p:cNvPr id="545" name=""/>
            <p:cNvSpPr/>
            <p:nvPr/>
          </p:nvSpPr>
          <p:spPr>
            <a:xfrm>
              <a:off x="5002560" y="990720"/>
              <a:ext cx="3404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Focusing comparison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546" name="" descr=""/>
            <p:cNvPicPr/>
            <p:nvPr/>
          </p:nvPicPr>
          <p:blipFill>
            <a:blip r:embed="rId1"/>
            <a:stretch/>
          </p:blipFill>
          <p:spPr>
            <a:xfrm>
              <a:off x="4800600" y="1447920"/>
              <a:ext cx="384984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47" name=""/>
            <p:cNvSpPr/>
            <p:nvPr/>
          </p:nvSpPr>
          <p:spPr>
            <a:xfrm>
              <a:off x="755136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5805720" y="519444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7953480" y="5335560"/>
              <a:ext cx="689040" cy="212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670880" y="516564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4797360" y="1490760"/>
              <a:ext cx="389160" cy="338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rot="16200000">
              <a:off x="426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738680" y="4140360"/>
              <a:ext cx="606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555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556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ffff00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ffff00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564" name=""/>
          <p:cNvGrpSpPr/>
          <p:nvPr/>
        </p:nvGrpSpPr>
        <p:grpSpPr>
          <a:xfrm>
            <a:off x="1403280" y="3433680"/>
            <a:ext cx="4737240" cy="787320"/>
            <a:chOff x="1403280" y="3433680"/>
            <a:chExt cx="4737240" cy="787320"/>
          </a:xfrm>
        </p:grpSpPr>
        <p:sp>
          <p:nvSpPr>
            <p:cNvPr id="565" name=""/>
            <p:cNvSpPr/>
            <p:nvPr/>
          </p:nvSpPr>
          <p:spPr>
            <a:xfrm>
              <a:off x="1403280" y="3544920"/>
              <a:ext cx="351000" cy="67608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789520" y="3433680"/>
              <a:ext cx="351000" cy="676440"/>
            </a:xfrm>
            <a:prstGeom prst="ellipse">
              <a:avLst/>
            </a:prstGeom>
            <a:noFill/>
            <a:ln w="19080">
              <a:solidFill>
                <a:srgbClr val="0000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765440" y="3730320"/>
              <a:ext cx="4020840" cy="90360"/>
            </a:xfrm>
            <a:prstGeom prst="line">
              <a:avLst/>
            </a:prstGeom>
            <a:ln w="19080">
              <a:solidFill>
                <a:srgbClr val="000099"/>
              </a:solidFill>
              <a:prstDash val="dash"/>
              <a:miter/>
              <a:headEnd len="med" type="stealth" w="med"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68" name=""/>
          <p:cNvSpPr/>
          <p:nvPr/>
        </p:nvSpPr>
        <p:spPr>
          <a:xfrm>
            <a:off x="5599080" y="3656160"/>
            <a:ext cx="1800" cy="1503360"/>
          </a:xfrm>
          <a:prstGeom prst="line">
            <a:avLst/>
          </a:prstGeom>
          <a:ln w="19080">
            <a:solidFill>
              <a:srgbClr val="ff0000"/>
            </a:solidFill>
            <a:prstDash val="dashDot"/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1260360" y="76320"/>
            <a:ext cx="7718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positive focusing vs 10 years mixed scenario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570" name="" descr=""/>
          <p:cNvPicPr/>
          <p:nvPr/>
        </p:nvPicPr>
        <p:blipFill>
          <a:blip r:embed="rId1"/>
          <a:stretch/>
        </p:blipFill>
        <p:spPr>
          <a:xfrm>
            <a:off x="457200" y="1401840"/>
            <a:ext cx="3925800" cy="412272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571" name="" descr=""/>
          <p:cNvPicPr/>
          <p:nvPr/>
        </p:nvPicPr>
        <p:blipFill>
          <a:blip r:embed="rId2"/>
          <a:stretch/>
        </p:blipFill>
        <p:spPr>
          <a:xfrm>
            <a:off x="4983120" y="1413000"/>
            <a:ext cx="3900600" cy="408600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sp>
        <p:nvSpPr>
          <p:cNvPr id="572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47640" y="51307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1303560" y="51404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81120" y="51274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2666880" y="516888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83360" y="5118120"/>
            <a:ext cx="116820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7175520" y="5118120"/>
            <a:ext cx="1168560" cy="17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1184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176800" y="51148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775512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7120080" y="510228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233880" y="51530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598840" y="5165640"/>
            <a:ext cx="517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ahoma"/>
              </a:rPr>
              <a:t>10</a:t>
            </a:r>
            <a:r>
              <a:rPr b="1" lang="en-US" sz="1600" spc="-1" strike="noStrike" baseline="30000">
                <a:solidFill>
                  <a:srgbClr val="000099"/>
                </a:solidFill>
                <a:latin typeface="Tahoma"/>
              </a:rPr>
              <a:t>-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1015200" y="197496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285600" y="390528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907720" y="188604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8254080" y="3867120"/>
            <a:ext cx="56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y+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y-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960480" y="977760"/>
            <a:ext cx="31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Energy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245560" y="965160"/>
            <a:ext cx="34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cusing comparison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591" name=""/>
          <p:cNvGrpSpPr/>
          <p:nvPr/>
        </p:nvGrpSpPr>
        <p:grpSpPr>
          <a:xfrm>
            <a:off x="1711440" y="3524400"/>
            <a:ext cx="1282680" cy="1191240"/>
            <a:chOff x="1711440" y="3524400"/>
            <a:chExt cx="1282680" cy="1191240"/>
          </a:xfrm>
        </p:grpSpPr>
        <p:sp>
          <p:nvSpPr>
            <p:cNvPr id="592" name=""/>
            <p:cNvSpPr/>
            <p:nvPr/>
          </p:nvSpPr>
          <p:spPr>
            <a:xfrm>
              <a:off x="1711440" y="3524400"/>
              <a:ext cx="128268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816200" y="3746520"/>
              <a:ext cx="216000" cy="0"/>
            </a:xfrm>
            <a:prstGeom prst="line">
              <a:avLst/>
            </a:prstGeom>
            <a:ln w="2844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1816200" y="3988080"/>
              <a:ext cx="21600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1816200" y="4267440"/>
              <a:ext cx="21600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1829160" y="4521240"/>
              <a:ext cx="2156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597" name=""/>
          <p:cNvSpPr/>
          <p:nvPr/>
        </p:nvSpPr>
        <p:spPr>
          <a:xfrm>
            <a:off x="673200" y="1523880"/>
            <a:ext cx="21564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401400" y="41511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04000" y="36432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59160" y="312264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70960" y="2602080"/>
            <a:ext cx="384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01400" y="46594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181480" y="1498680"/>
            <a:ext cx="216000" cy="347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4909680" y="412596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0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012640" y="3618000"/>
            <a:ext cx="44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167800" y="3097080"/>
            <a:ext cx="28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909680" y="463392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ahoma"/>
              </a:rPr>
              <a:t>-150</a:t>
            </a:r>
            <a:endParaRPr b="0" lang="en-US" sz="1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08" name=""/>
          <p:cNvGrpSpPr/>
          <p:nvPr/>
        </p:nvGrpSpPr>
        <p:grpSpPr>
          <a:xfrm>
            <a:off x="4746600" y="1339920"/>
            <a:ext cx="1434960" cy="1554120"/>
            <a:chOff x="4746600" y="1339920"/>
            <a:chExt cx="1434960" cy="1554120"/>
          </a:xfrm>
        </p:grpSpPr>
        <p:sp>
          <p:nvSpPr>
            <p:cNvPr id="609" name=""/>
            <p:cNvSpPr/>
            <p:nvPr/>
          </p:nvSpPr>
          <p:spPr>
            <a:xfrm>
              <a:off x="4746600" y="1339920"/>
              <a:ext cx="1434960" cy="155412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0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260M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42000" y="1536840"/>
              <a:ext cx="187200" cy="28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842000" y="2004840"/>
              <a:ext cx="199800" cy="180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829040" y="2502000"/>
              <a:ext cx="2001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613" name=""/>
          <p:cNvGrpSpPr/>
          <p:nvPr/>
        </p:nvGrpSpPr>
        <p:grpSpPr>
          <a:xfrm>
            <a:off x="5400" y="5562720"/>
            <a:ext cx="8902440" cy="926280"/>
            <a:chOff x="5400" y="5562720"/>
            <a:chExt cx="8902440" cy="926280"/>
          </a:xfrm>
        </p:grpSpPr>
        <p:sp>
          <p:nvSpPr>
            <p:cNvPr id="614" name=""/>
            <p:cNvSpPr/>
            <p:nvPr/>
          </p:nvSpPr>
          <p:spPr>
            <a:xfrm>
              <a:off x="5400" y="5715000"/>
              <a:ext cx="848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ahoma"/>
                </a:rPr>
                <a:t>Best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638320" y="5729400"/>
              <a:ext cx="326952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1" lang="en-US" sz="28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1" lang="en-US" sz="2800" spc="-1" strike="noStrike" baseline="-25000">
                  <a:solidFill>
                    <a:srgbClr val="000000"/>
                  </a:solidFill>
                  <a:latin typeface="Tahoma"/>
                </a:rPr>
                <a:t>13 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&gt; 2.02 10</a:t>
              </a:r>
              <a:r>
                <a:rPr b="1" lang="en-US" sz="2800" spc="-1" strike="noStrike" baseline="30000">
                  <a:solidFill>
                    <a:srgbClr val="000000"/>
                  </a:solidFill>
                  <a:latin typeface="Tahoma"/>
                </a:rPr>
                <a:t>-3</a:t>
              </a:r>
              <a:r>
                <a:rPr b="1" lang="en-US" sz="28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grpSp>
          <p:nvGrpSpPr>
            <p:cNvPr id="616" name=""/>
            <p:cNvGrpSpPr/>
            <p:nvPr/>
          </p:nvGrpSpPr>
          <p:grpSpPr>
            <a:xfrm>
              <a:off x="3530880" y="5562720"/>
              <a:ext cx="1900080" cy="926280"/>
              <a:chOff x="3530880" y="5562720"/>
              <a:chExt cx="1900080" cy="926280"/>
            </a:xfrm>
          </p:grpSpPr>
          <p:sp>
            <p:nvSpPr>
              <p:cNvPr id="617" name=""/>
              <p:cNvSpPr/>
              <p:nvPr/>
            </p:nvSpPr>
            <p:spPr>
              <a:xfrm>
                <a:off x="3530880" y="5562720"/>
                <a:ext cx="1783800" cy="926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Tahoma"/>
                  </a:rPr>
                  <a:t>k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 = 3.5G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E</a:t>
                </a:r>
                <a:r>
                  <a:rPr b="0" lang="en-GB" sz="2400" spc="-1" strike="noStrike" baseline="-25000">
                    <a:solidFill>
                      <a:srgbClr val="000000"/>
                    </a:solidFill>
                    <a:latin typeface="Symbol"/>
                    <a:ea typeface="Symbol"/>
                  </a:rPr>
                  <a:t></a:t>
                </a:r>
                <a:r>
                  <a:rPr b="0" lang="en-GB" sz="2400" spc="-1" strike="noStrike">
                    <a:solidFill>
                      <a:srgbClr val="000000"/>
                    </a:solidFill>
                    <a:latin typeface="Tahoma"/>
                  </a:rPr>
                  <a:t>=300MeV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535464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grpSp>
          <p:nvGrpSpPr>
            <p:cNvPr id="619" name=""/>
            <p:cNvGrpSpPr/>
            <p:nvPr/>
          </p:nvGrpSpPr>
          <p:grpSpPr>
            <a:xfrm>
              <a:off x="798840" y="5562720"/>
              <a:ext cx="2727000" cy="838080"/>
              <a:chOff x="798840" y="5562720"/>
              <a:chExt cx="2727000" cy="838080"/>
            </a:xfrm>
          </p:grpSpPr>
          <p:sp>
            <p:nvSpPr>
              <p:cNvPr id="620" name=""/>
              <p:cNvSpPr/>
              <p:nvPr/>
            </p:nvSpPr>
            <p:spPr>
              <a:xfrm>
                <a:off x="798840" y="5562720"/>
                <a:ext cx="2701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tunnel : 40m long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ahoma"/>
                  </a:rPr>
                  <a:t>2m radius</a:t>
                </a:r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1" name=""/>
              <p:cNvSpPr/>
              <p:nvPr/>
            </p:nvSpPr>
            <p:spPr>
              <a:xfrm>
                <a:off x="3449520" y="5638680"/>
                <a:ext cx="7632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22" name=""/>
              <p:cNvSpPr/>
              <p:nvPr/>
            </p:nvSpPr>
            <p:spPr>
              <a:xfrm>
                <a:off x="858960" y="5638680"/>
                <a:ext cx="75960" cy="76212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ffff00"/>
                  </a:gs>
                  <a:gs pos="100000">
                    <a:srgbClr val="ffff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3" name=""/>
          <p:cNvSpPr/>
          <p:nvPr/>
        </p:nvSpPr>
        <p:spPr>
          <a:xfrm>
            <a:off x="8229600" y="1403280"/>
            <a:ext cx="0" cy="36831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784760" y="1866960"/>
            <a:ext cx="1265040" cy="5000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239680" y="6058080"/>
            <a:ext cx="89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90%CL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5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6" name="" descr=""/>
          <p:cNvPicPr/>
          <p:nvPr/>
        </p:nvPicPr>
        <p:blipFill>
          <a:blip r:embed="rId1"/>
          <a:stretch/>
        </p:blipFill>
        <p:spPr>
          <a:xfrm>
            <a:off x="2962440" y="747720"/>
            <a:ext cx="6011640" cy="439884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137960" y="101160"/>
            <a:ext cx="7792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eneral comparison.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71360" y="5292720"/>
            <a:ext cx="8972640" cy="96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for 10 years in mixed focusing, sensitivity arou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~1°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marL="529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Clear complementarily between positive scenario and 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beam (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&gt;0)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29" name=""/>
          <p:cNvSpPr/>
          <p:nvPr/>
        </p:nvSpPr>
        <p:spPr>
          <a:xfrm>
            <a:off x="200160" y="3881520"/>
            <a:ext cx="26967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10y mixed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y positive focusing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 flipV="1">
            <a:off x="2835360" y="3244320"/>
            <a:ext cx="1542960" cy="88452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 flipV="1">
            <a:off x="2873520" y="3586320"/>
            <a:ext cx="1604880" cy="860400"/>
          </a:xfrm>
          <a:prstGeom prst="line">
            <a:avLst/>
          </a:prstGeom>
          <a:ln w="38160">
            <a:solidFill>
              <a:srgbClr val="d6009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2860560" y="3987360"/>
            <a:ext cx="1995480" cy="725400"/>
          </a:xfrm>
          <a:prstGeom prst="line">
            <a:avLst/>
          </a:prstGeom>
          <a:ln w="381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uper Beam 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&amp;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beta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1"/>
          <a:stretch/>
        </p:blipFill>
        <p:spPr>
          <a:xfrm>
            <a:off x="1755720" y="1098720"/>
            <a:ext cx="5827680" cy="4678200"/>
          </a:xfrm>
          <a:prstGeom prst="rect">
            <a:avLst/>
          </a:prstGeom>
          <a:ln w="38160">
            <a:solidFill>
              <a:srgbClr val="ffff00"/>
            </a:solidFill>
            <a:miter/>
          </a:ln>
        </p:spPr>
      </p:pic>
      <p:sp>
        <p:nvSpPr>
          <p:cNvPr id="635" name=""/>
          <p:cNvSpPr/>
          <p:nvPr/>
        </p:nvSpPr>
        <p:spPr>
          <a:xfrm>
            <a:off x="2435040" y="5854680"/>
            <a:ext cx="462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discovery potential curves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4177440" y="1314360"/>
            <a:ext cx="69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Tahoma"/>
              </a:rPr>
              <a:t>SPL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7610040" y="5754600"/>
            <a:ext cx="15645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99"/>
                </a:solidFill>
                <a:latin typeface="Tahoma"/>
              </a:rPr>
              <a:t>M. Mezzetto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Tahoma"/>
              </a:rPr>
              <a:t>Villars SPSC 0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466360" y="3179880"/>
            <a:ext cx="124308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99"/>
                </a:solidFill>
                <a:latin typeface="Symbol"/>
                <a:ea typeface="Symbol"/>
              </a:rPr>
              <a:t>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 </a:t>
            </a:r>
            <a:r>
              <a:rPr b="0" lang="fr-FR" sz="2400" spc="-1" strike="noStrike">
                <a:solidFill>
                  <a:srgbClr val="000099"/>
                </a:solidFill>
                <a:latin typeface="Tahoma"/>
              </a:rPr>
              <a:t>beam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flipV="1">
            <a:off x="3228840" y="2576160"/>
            <a:ext cx="393840" cy="676440"/>
          </a:xfrm>
          <a:prstGeom prst="line">
            <a:avLst/>
          </a:prstGeom>
          <a:ln w="1908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4303800" y="4211640"/>
            <a:ext cx="165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8000"/>
                </a:solidFill>
                <a:latin typeface="Tahoma"/>
              </a:rPr>
              <a:t>Combined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022640" y="1968480"/>
            <a:ext cx="153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Thi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0000"/>
                </a:solidFill>
                <a:latin typeface="Tahoma"/>
              </a:rPr>
              <a:t>optimisatio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 flipH="1">
            <a:off x="4452840" y="2624040"/>
            <a:ext cx="225360" cy="3333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MARS vs FLUKA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644" name="" descr=""/>
          <p:cNvPicPr/>
          <p:nvPr/>
        </p:nvPicPr>
        <p:blipFill>
          <a:blip r:embed="rId1"/>
          <a:stretch/>
        </p:blipFill>
        <p:spPr>
          <a:xfrm>
            <a:off x="1835280" y="1989000"/>
            <a:ext cx="5197320" cy="3524400"/>
          </a:xfrm>
          <a:prstGeom prst="rect">
            <a:avLst/>
          </a:prstGeom>
          <a:ln w="38160">
            <a:solidFill>
              <a:srgbClr val="3333cc"/>
            </a:solidFill>
            <a:miter/>
          </a:ln>
        </p:spPr>
      </p:pic>
      <p:sp>
        <p:nvSpPr>
          <p:cNvPr id="645" name=""/>
          <p:cNvSpPr/>
          <p:nvPr/>
        </p:nvSpPr>
        <p:spPr>
          <a:xfrm>
            <a:off x="5796000" y="3213000"/>
            <a:ext cx="2209680" cy="13136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At the entrance of the SB decay tunnel (after the horn focusing)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2016360" y="5661000"/>
            <a:ext cx="4872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Discrepancies reduced in the beam line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7032600" y="5589720"/>
            <a:ext cx="1957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R = 1m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o angular cut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6689160" y="6272280"/>
            <a:ext cx="193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A. Cazes thesis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Flux calculati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685440" y="1386000"/>
            <a:ext cx="80773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energy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 Small boost </a:t>
            </a:r>
            <a:r>
              <a:rPr b="0" lang="en-GB" sz="2800" spc="-1" strike="noStrike">
                <a:solidFill>
                  <a:srgbClr val="ff0000"/>
                </a:solidFill>
                <a:latin typeface="Symbol"/>
                <a:ea typeface="Symbol"/>
              </a:rPr>
              <a:t></a:t>
            </a:r>
            <a:r>
              <a:rPr b="0" lang="en-GB" sz="28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low focusing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Need a high number of events (~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10</a:t>
            </a:r>
            <a:r>
              <a:rPr b="0" lang="fr-FR" sz="2800" spc="-1" strike="noStrike" baseline="30000">
                <a:solidFill>
                  <a:srgbClr val="003399"/>
                </a:solidFill>
                <a:latin typeface="Comic Sans MS"/>
                <a:ea typeface="Arial"/>
              </a:rPr>
              <a:t>15</a:t>
            </a:r>
            <a:r>
              <a:rPr b="0" lang="fr-FR" sz="2800" spc="-1" strike="noStrike">
                <a:solidFill>
                  <a:srgbClr val="003399"/>
                </a:solidFill>
                <a:latin typeface="Comic Sans MS"/>
                <a:ea typeface="Arial"/>
              </a:rPr>
              <a:t> evts!!!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Use probability (M. Donega thesis approach)</a:t>
            </a:r>
            <a:endParaRPr b="0" lang="en-US" sz="28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Each time a pion,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a muon, or a kaon is decayed by Geant,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ompute the probability for the neutrino to reach the detector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Use this</a:t>
            </a:r>
            <a:r>
              <a:rPr b="0" lang="en-US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probability as a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weight</a:t>
            </a: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, and fill an histogram with the neutrino energy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There are few kaons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therfore a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kaon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produced in the target is duplicated many times:</a:t>
            </a:r>
            <a:r>
              <a:rPr b="0" lang="en-GB" sz="24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ffff"/>
                </a:solidFill>
                <a:latin typeface="Monotype Corsiva"/>
              </a:rPr>
              <a:t>~100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  <a:p>
            <a:pPr lvl="1" marL="990720" indent="-533520">
              <a:spcBef>
                <a:spcPts val="601"/>
              </a:spcBef>
              <a:buClr>
                <a:srgbClr val="003399"/>
              </a:buClr>
              <a:buFont typeface="Comic Sans MS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Comic Sans MS"/>
              </a:rPr>
              <a:t>Gives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utrino spectrum.</a:t>
            </a:r>
            <a:endParaRPr b="0" lang="en-US" sz="24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51" name=""/>
          <p:cNvSpPr/>
          <p:nvPr/>
        </p:nvSpPr>
        <p:spPr>
          <a:xfrm rot="21579000">
            <a:off x="183600" y="4682880"/>
            <a:ext cx="730440" cy="674280"/>
          </a:xfrm>
          <a:prstGeom prst="rightArrow">
            <a:avLst>
              <a:gd name="adj1" fmla="val 50000"/>
              <a:gd name="adj2" fmla="val 27082"/>
            </a:avLst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Tahoma"/>
              </a:rPr>
              <a:t>New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Horn design parameter for Super Beam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3657600" y="1128600"/>
            <a:ext cx="4876920" cy="2287800"/>
            <a:chOff x="3657600" y="1128600"/>
            <a:chExt cx="4876920" cy="2287800"/>
          </a:xfrm>
        </p:grpSpPr>
        <p:pic>
          <p:nvPicPr>
            <p:cNvPr id="654" name="" descr=""/>
            <p:cNvPicPr/>
            <p:nvPr/>
          </p:nvPicPr>
          <p:blipFill>
            <a:blip r:embed="rId1"/>
            <a:stretch/>
          </p:blipFill>
          <p:spPr>
            <a:xfrm>
              <a:off x="3657600" y="1128600"/>
              <a:ext cx="4876920" cy="22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655" name=""/>
            <p:cNvSpPr/>
            <p:nvPr/>
          </p:nvSpPr>
          <p:spPr>
            <a:xfrm>
              <a:off x="4038480" y="3195720"/>
              <a:ext cx="3810240" cy="220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962520" y="3048120"/>
              <a:ext cx="236196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470052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14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033800" y="3289320"/>
              <a:ext cx="388620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6553080" y="3048120"/>
              <a:ext cx="78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22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7924680" y="2014560"/>
              <a:ext cx="609840" cy="885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001000" y="1276200"/>
              <a:ext cx="0" cy="15494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7695000" y="1719360"/>
              <a:ext cx="68652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99"/>
                  </a:solidFill>
                  <a:latin typeface="Arial"/>
                </a:rPr>
                <a:t>80 cm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aphicFrame>
        <p:nvGraphicFramePr>
          <p:cNvPr id="663" name=""/>
          <p:cNvGraphicFramePr/>
          <p:nvPr/>
        </p:nvGraphicFramePr>
        <p:xfrm>
          <a:off x="6548400" y="3673440"/>
          <a:ext cx="2438280" cy="2679840"/>
        </p:xfrm>
        <a:graphic>
          <a:graphicData uri="http://schemas.openxmlformats.org/drawingml/2006/table">
            <a:tbl>
              <a:tblPr/>
              <a:tblGrid>
                <a:gridCol w="1487520"/>
                <a:gridCol w="950760"/>
              </a:tblGrid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HORN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1368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inn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.4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neck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0.5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FLE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outer radius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4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total length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20cm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99"/>
                      </a:solidFill>
                    </a:lnL>
                    <a:lnR w="1368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3680">
                      <a:solidFill>
                        <a:srgbClr val="000099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4" name=""/>
          <p:cNvSpPr/>
          <p:nvPr/>
        </p:nvSpPr>
        <p:spPr>
          <a:xfrm>
            <a:off x="4006800" y="4441680"/>
            <a:ext cx="177336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3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E</a:t>
            </a:r>
            <a:r>
              <a:rPr b="0" lang="en-US" sz="2400" spc="-1" strike="noStrike" baseline="-25000">
                <a:solidFill>
                  <a:srgbClr val="000099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~800M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583920" y="1487520"/>
            <a:ext cx="311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onductor thickness : 3mm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horn : 3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reflector : 600kAmps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hallenging!!!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pic>
        <p:nvPicPr>
          <p:cNvPr id="666" name="" descr=""/>
          <p:cNvPicPr/>
          <p:nvPr/>
        </p:nvPicPr>
        <p:blipFill>
          <a:blip r:embed="rId2"/>
          <a:stretch/>
        </p:blipFill>
        <p:spPr>
          <a:xfrm>
            <a:off x="663480" y="4097160"/>
            <a:ext cx="2836800" cy="1770120"/>
          </a:xfrm>
          <a:prstGeom prst="rect">
            <a:avLst/>
          </a:prstGeom>
          <a:ln w="0">
            <a:noFill/>
          </a:ln>
        </p:spPr>
      </p:pic>
      <p:sp>
        <p:nvSpPr>
          <p:cNvPr id="667" name=""/>
          <p:cNvSpPr/>
          <p:nvPr/>
        </p:nvSpPr>
        <p:spPr>
          <a:xfrm>
            <a:off x="674640" y="5689440"/>
            <a:ext cx="271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Tahoma"/>
              </a:rPr>
              <a:t>Using Geant 3.2.1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05600" y="6081840"/>
            <a:ext cx="218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ahoma"/>
              </a:rPr>
              <a:t>NuFact-Note 138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873080" y="3594240"/>
            <a:ext cx="457200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Drawing from the horn built at CERN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Comic Sans MS"/>
              </a:rPr>
              <a:t>Optimized for Super Beam 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2890080" y="5338800"/>
            <a:ext cx="4129200" cy="58140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+ or - focusing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717120" y="320400"/>
            <a:ext cx="8153640" cy="67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SPL block diagram (CDR 1)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2" name=""/>
          <p:cNvSpPr/>
          <p:nvPr/>
        </p:nvSpPr>
        <p:spPr>
          <a:xfrm>
            <a:off x="179280" y="5013360"/>
            <a:ext cx="4392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1720800" y="1065240"/>
            <a:ext cx="6950160" cy="124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Characteristics (Conceptual Design Report 1):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re “optimized” for a neutrino factor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lvl="1" marL="457200">
              <a:lnSpc>
                <a:spcPct val="80000"/>
              </a:lnSpc>
              <a:spcBef>
                <a:spcPts val="499"/>
              </a:spcBef>
              <a:buClr>
                <a:srgbClr val="00fff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ume the use of 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P cavities &amp; klystron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up to the highest energy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74" name=""/>
          <p:cNvGrpSpPr/>
          <p:nvPr/>
        </p:nvGrpSpPr>
        <p:grpSpPr>
          <a:xfrm>
            <a:off x="152280" y="2535120"/>
            <a:ext cx="8748720" cy="3727440"/>
            <a:chOff x="152280" y="2535120"/>
            <a:chExt cx="8748720" cy="3727440"/>
          </a:xfrm>
        </p:grpSpPr>
        <p:pic>
          <p:nvPicPr>
            <p:cNvPr id="675" name="spl_layout_02_04" descr=""/>
            <p:cNvPicPr/>
            <p:nvPr/>
          </p:nvPicPr>
          <p:blipFill>
            <a:blip r:embed="rId1"/>
            <a:stretch/>
          </p:blipFill>
          <p:spPr>
            <a:xfrm>
              <a:off x="152280" y="2841840"/>
              <a:ext cx="8748720" cy="34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76" name=""/>
            <p:cNvSpPr/>
            <p:nvPr/>
          </p:nvSpPr>
          <p:spPr>
            <a:xfrm>
              <a:off x="5723640" y="2535120"/>
              <a:ext cx="2745360" cy="581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.2GeV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Some physics performanc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678" name=""/>
          <p:cNvSpPr/>
          <p:nvPr/>
        </p:nvSpPr>
        <p:spPr>
          <a:xfrm>
            <a:off x="725400" y="1138320"/>
            <a:ext cx="8074080" cy="66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True values: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CP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, </a:t>
            </a:r>
            <a:r>
              <a:rPr b="1" lang="en-GB" sz="16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1600" spc="-1" strike="noStrike">
                <a:solidFill>
                  <a:srgbClr val="ff0000"/>
                </a:solidFill>
                <a:latin typeface="Comic Sans MS"/>
              </a:rPr>
              <a:t>=0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5%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xternal precision on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and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 and use SPL disappearance channel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-24480" y="6005520"/>
            <a:ext cx="484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2% syst. on signal &amp; bkg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5207400" y="5910120"/>
            <a:ext cx="4106160" cy="581400"/>
          </a:xfrm>
          <a:prstGeom prst="rect">
            <a:avLst/>
          </a:prstGeom>
          <a:solidFill>
            <a:srgbClr val="f4e1c2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Improve T2K-I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681" name=""/>
          <p:cNvGrpSpPr/>
          <p:nvPr/>
        </p:nvGrpSpPr>
        <p:grpSpPr>
          <a:xfrm>
            <a:off x="-156600" y="1816200"/>
            <a:ext cx="5229720" cy="4009320"/>
            <a:chOff x="-156600" y="1816200"/>
            <a:chExt cx="5229720" cy="4009320"/>
          </a:xfrm>
        </p:grpSpPr>
        <p:grpSp>
          <p:nvGrpSpPr>
            <p:cNvPr id="682" name=""/>
            <p:cNvGrpSpPr/>
            <p:nvPr/>
          </p:nvGrpSpPr>
          <p:grpSpPr>
            <a:xfrm>
              <a:off x="-156600" y="1816200"/>
              <a:ext cx="5229720" cy="4009320"/>
              <a:chOff x="-156600" y="1816200"/>
              <a:chExt cx="5229720" cy="4009320"/>
            </a:xfrm>
          </p:grpSpPr>
          <p:sp>
            <p:nvSpPr>
              <p:cNvPr id="683" name=""/>
              <p:cNvSpPr/>
              <p:nvPr/>
            </p:nvSpPr>
            <p:spPr>
              <a:xfrm>
                <a:off x="376200" y="1816200"/>
                <a:ext cx="4327560" cy="39589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4" name=""/>
              <p:cNvSpPr/>
              <p:nvPr/>
            </p:nvSpPr>
            <p:spPr>
              <a:xfrm>
                <a:off x="27000" y="2314440"/>
                <a:ext cx="2789640" cy="11703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2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8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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85" name=""/>
              <p:cNvSpPr/>
              <p:nvPr/>
            </p:nvSpPr>
            <p:spPr>
              <a:xfrm>
                <a:off x="1579680" y="4808520"/>
                <a:ext cx="2637000" cy="3682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800" spc="-1" strike="noStrike">
                    <a:solidFill>
                      <a:srgbClr val="003399"/>
                    </a:solidFill>
                    <a:latin typeface="Comic Sans MS"/>
                  </a:rPr>
                  <a:t>preliminary</a:t>
                </a:r>
                <a:endParaRPr b="0" lang="en-US" sz="18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pic>
            <p:nvPicPr>
              <p:cNvPr id="686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65120" y="1895400"/>
                <a:ext cx="4170240" cy="39146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87" name=""/>
              <p:cNvSpPr/>
              <p:nvPr/>
            </p:nvSpPr>
            <p:spPr>
              <a:xfrm>
                <a:off x="2521440" y="2577960"/>
                <a:ext cx="2013840" cy="39888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000" spc="-1" strike="noStrike">
                    <a:solidFill>
                      <a:srgbClr val="008000"/>
                    </a:solidFill>
                    <a:latin typeface="Comic Sans MS"/>
                  </a:rPr>
                  <a:t>T2K-I</a:t>
                </a:r>
                <a:endParaRPr b="0" lang="en-US" sz="20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88" name=""/>
              <p:cNvGrpSpPr/>
              <p:nvPr/>
            </p:nvGrpSpPr>
            <p:grpSpPr>
              <a:xfrm>
                <a:off x="1072080" y="2087640"/>
                <a:ext cx="2283480" cy="337320"/>
                <a:chOff x="1072080" y="2087640"/>
                <a:chExt cx="2283480" cy="337320"/>
              </a:xfrm>
            </p:grpSpPr>
            <p:sp>
              <p:nvSpPr>
                <p:cNvPr id="689" name=""/>
                <p:cNvSpPr/>
                <p:nvPr/>
              </p:nvSpPr>
              <p:spPr>
                <a:xfrm>
                  <a:off x="1166760" y="226044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66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>
                  <a:off x="1072080" y="2087640"/>
                  <a:ext cx="22834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66cc"/>
                      </a:solidFill>
                      <a:latin typeface="Comic Sans MS"/>
                    </a:rPr>
                    <a:t>Rate only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1" name=""/>
              <p:cNvGrpSpPr/>
              <p:nvPr/>
            </p:nvGrpSpPr>
            <p:grpSpPr>
              <a:xfrm>
                <a:off x="1099440" y="2367000"/>
                <a:ext cx="3973680" cy="337320"/>
                <a:chOff x="1099440" y="2367000"/>
                <a:chExt cx="3973680" cy="337320"/>
              </a:xfrm>
            </p:grpSpPr>
            <p:sp>
              <p:nvSpPr>
                <p:cNvPr id="692" name=""/>
                <p:cNvSpPr/>
                <p:nvPr/>
              </p:nvSpPr>
              <p:spPr>
                <a:xfrm>
                  <a:off x="1193760" y="2539800"/>
                  <a:ext cx="403200" cy="0"/>
                </a:xfrm>
                <a:prstGeom prst="line">
                  <a:avLst/>
                </a:prstGeom>
                <a:ln w="381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3" name=""/>
                <p:cNvSpPr/>
                <p:nvPr/>
              </p:nvSpPr>
              <p:spPr>
                <a:xfrm>
                  <a:off x="1099440" y="2367000"/>
                  <a:ext cx="397368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1600" spc="-1" strike="noStrike">
                      <a:solidFill>
                        <a:srgbClr val="ff0000"/>
                      </a:solidFill>
                      <a:latin typeface="Comic Sans MS"/>
                    </a:rPr>
                    <a:t>Spectrum analysis (prelim.)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94" name=""/>
              <p:cNvSpPr/>
              <p:nvPr/>
            </p:nvSpPr>
            <p:spPr>
              <a:xfrm>
                <a:off x="-156600" y="5365800"/>
                <a:ext cx="36630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4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90%CL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 (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</a:t>
                </a:r>
                <a:r>
                  <a:rPr b="0" lang="en-GB" sz="1600" spc="-1" strike="noStrike" baseline="30000">
                    <a:solidFill>
                      <a:srgbClr val="003399"/>
                    </a:solidFill>
                    <a:latin typeface="Comic Sans MS"/>
                  </a:rPr>
                  <a:t>2</a:t>
                </a:r>
                <a:r>
                  <a:rPr b="0" lang="en-GB" sz="1600" spc="-1" strike="noStrike">
                    <a:solidFill>
                      <a:srgbClr val="003399"/>
                    </a:solidFill>
                    <a:latin typeface="Comic Sans MS"/>
                  </a:rPr>
                  <a:t>(2dof)=4.6)</a:t>
                </a:r>
                <a:endParaRPr b="0" lang="en-US" sz="16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108160" y="4627440"/>
                <a:ext cx="2789640" cy="581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7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5yrs (</a:t>
                </a:r>
                <a:r>
                  <a:rPr b="1" lang="en-GB" sz="3200" spc="-1" strike="noStrike">
                    <a:solidFill>
                      <a:srgbClr val="003399"/>
                    </a:solidFill>
                    <a:latin typeface="Symbol"/>
                    <a:ea typeface="Symbol"/>
                  </a:rPr>
                  <a:t></a:t>
                </a:r>
                <a:r>
                  <a:rPr b="0" lang="en-GB" sz="3200" spc="-1" strike="noStrike">
                    <a:solidFill>
                      <a:srgbClr val="003399"/>
                    </a:solidFill>
                    <a:latin typeface="Comic Sans MS"/>
                  </a:rPr>
                  <a:t>)</a:t>
                </a:r>
                <a:endParaRPr b="0" lang="en-US" sz="32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696" name=""/>
              <p:cNvGrpSpPr/>
              <p:nvPr/>
            </p:nvGrpSpPr>
            <p:grpSpPr>
              <a:xfrm>
                <a:off x="1143360" y="2744640"/>
                <a:ext cx="2128320" cy="337320"/>
                <a:chOff x="1143360" y="2744640"/>
                <a:chExt cx="2128320" cy="337320"/>
              </a:xfrm>
            </p:grpSpPr>
            <p:sp>
              <p:nvSpPr>
                <p:cNvPr id="697" name=""/>
                <p:cNvSpPr/>
                <p:nvPr/>
              </p:nvSpPr>
              <p:spPr>
                <a:xfrm>
                  <a:off x="1206360" y="2895480"/>
                  <a:ext cx="403200" cy="0"/>
                </a:xfrm>
                <a:prstGeom prst="line">
                  <a:avLst/>
                </a:prstGeom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1143360" y="2744640"/>
                  <a:ext cx="2128320" cy="33732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609480" indent="-609480">
                    <a:lnSpc>
                      <a:spcPct val="100000"/>
                    </a:lnSpc>
                    <a:spcBef>
                      <a:spcPts val="4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fr-FR" sz="1600" spc="-1" strike="noStrike">
                      <a:solidFill>
                        <a:srgbClr val="3366ff"/>
                      </a:solidFill>
                      <a:latin typeface="Comic Sans MS"/>
                    </a:rPr>
                    <a:t>Old SPL</a:t>
                  </a:r>
                  <a:endParaRPr b="0" lang="en-US" sz="16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699" name=""/>
            <p:cNvSpPr/>
            <p:nvPr/>
          </p:nvSpPr>
          <p:spPr>
            <a:xfrm>
              <a:off x="1123920" y="2962080"/>
              <a:ext cx="3301920" cy="749520"/>
            </a:xfrm>
            <a:custGeom>
              <a:avLst/>
              <a:gdLst/>
              <a:ahLst/>
              <a:rect l="l" t="t" r="r" b="b"/>
              <a:pathLst>
                <a:path w="2568" h="326">
                  <a:moveTo>
                    <a:pt x="0" y="144"/>
                  </a:moveTo>
                  <a:cubicBezTo>
                    <a:pt x="11" y="151"/>
                    <a:pt x="43" y="171"/>
                    <a:pt x="68" y="184"/>
                  </a:cubicBezTo>
                  <a:cubicBezTo>
                    <a:pt x="93" y="197"/>
                    <a:pt x="123" y="213"/>
                    <a:pt x="148" y="224"/>
                  </a:cubicBezTo>
                  <a:cubicBezTo>
                    <a:pt x="173" y="235"/>
                    <a:pt x="197" y="245"/>
                    <a:pt x="216" y="252"/>
                  </a:cubicBezTo>
                  <a:cubicBezTo>
                    <a:pt x="235" y="259"/>
                    <a:pt x="245" y="259"/>
                    <a:pt x="264" y="264"/>
                  </a:cubicBezTo>
                  <a:cubicBezTo>
                    <a:pt x="283" y="269"/>
                    <a:pt x="309" y="279"/>
                    <a:pt x="332" y="284"/>
                  </a:cubicBezTo>
                  <a:cubicBezTo>
                    <a:pt x="355" y="289"/>
                    <a:pt x="378" y="291"/>
                    <a:pt x="400" y="296"/>
                  </a:cubicBezTo>
                  <a:cubicBezTo>
                    <a:pt x="422" y="301"/>
                    <a:pt x="441" y="307"/>
                    <a:pt x="464" y="312"/>
                  </a:cubicBezTo>
                  <a:cubicBezTo>
                    <a:pt x="487" y="317"/>
                    <a:pt x="519" y="322"/>
                    <a:pt x="540" y="324"/>
                  </a:cubicBezTo>
                  <a:cubicBezTo>
                    <a:pt x="561" y="326"/>
                    <a:pt x="573" y="324"/>
                    <a:pt x="592" y="324"/>
                  </a:cubicBezTo>
                  <a:cubicBezTo>
                    <a:pt x="611" y="324"/>
                    <a:pt x="633" y="325"/>
                    <a:pt x="652" y="324"/>
                  </a:cubicBezTo>
                  <a:cubicBezTo>
                    <a:pt x="671" y="323"/>
                    <a:pt x="687" y="323"/>
                    <a:pt x="708" y="320"/>
                  </a:cubicBezTo>
                  <a:cubicBezTo>
                    <a:pt x="729" y="317"/>
                    <a:pt x="755" y="312"/>
                    <a:pt x="776" y="308"/>
                  </a:cubicBezTo>
                  <a:cubicBezTo>
                    <a:pt x="797" y="304"/>
                    <a:pt x="809" y="301"/>
                    <a:pt x="832" y="296"/>
                  </a:cubicBezTo>
                  <a:cubicBezTo>
                    <a:pt x="855" y="291"/>
                    <a:pt x="885" y="288"/>
                    <a:pt x="912" y="280"/>
                  </a:cubicBezTo>
                  <a:cubicBezTo>
                    <a:pt x="939" y="272"/>
                    <a:pt x="968" y="257"/>
                    <a:pt x="992" y="248"/>
                  </a:cubicBezTo>
                  <a:cubicBezTo>
                    <a:pt x="1016" y="239"/>
                    <a:pt x="1033" y="236"/>
                    <a:pt x="1056" y="228"/>
                  </a:cubicBezTo>
                  <a:cubicBezTo>
                    <a:pt x="1079" y="220"/>
                    <a:pt x="1101" y="211"/>
                    <a:pt x="1132" y="200"/>
                  </a:cubicBezTo>
                  <a:cubicBezTo>
                    <a:pt x="1163" y="189"/>
                    <a:pt x="1211" y="175"/>
                    <a:pt x="1240" y="164"/>
                  </a:cubicBezTo>
                  <a:cubicBezTo>
                    <a:pt x="1269" y="153"/>
                    <a:pt x="1280" y="145"/>
                    <a:pt x="1308" y="136"/>
                  </a:cubicBezTo>
                  <a:cubicBezTo>
                    <a:pt x="1336" y="127"/>
                    <a:pt x="1381" y="115"/>
                    <a:pt x="1408" y="108"/>
                  </a:cubicBezTo>
                  <a:cubicBezTo>
                    <a:pt x="1435" y="101"/>
                    <a:pt x="1449" y="99"/>
                    <a:pt x="1472" y="92"/>
                  </a:cubicBezTo>
                  <a:cubicBezTo>
                    <a:pt x="1495" y="85"/>
                    <a:pt x="1525" y="74"/>
                    <a:pt x="1544" y="68"/>
                  </a:cubicBezTo>
                  <a:cubicBezTo>
                    <a:pt x="1563" y="62"/>
                    <a:pt x="1573" y="59"/>
                    <a:pt x="1588" y="56"/>
                  </a:cubicBezTo>
                  <a:cubicBezTo>
                    <a:pt x="1603" y="53"/>
                    <a:pt x="1613" y="53"/>
                    <a:pt x="1632" y="48"/>
                  </a:cubicBezTo>
                  <a:cubicBezTo>
                    <a:pt x="1651" y="43"/>
                    <a:pt x="1684" y="34"/>
                    <a:pt x="1704" y="28"/>
                  </a:cubicBezTo>
                  <a:cubicBezTo>
                    <a:pt x="1724" y="22"/>
                    <a:pt x="1737" y="16"/>
                    <a:pt x="1752" y="12"/>
                  </a:cubicBezTo>
                  <a:cubicBezTo>
                    <a:pt x="1767" y="8"/>
                    <a:pt x="1779" y="5"/>
                    <a:pt x="1796" y="4"/>
                  </a:cubicBezTo>
                  <a:cubicBezTo>
                    <a:pt x="1813" y="3"/>
                    <a:pt x="1837" y="5"/>
                    <a:pt x="1856" y="4"/>
                  </a:cubicBezTo>
                  <a:cubicBezTo>
                    <a:pt x="1875" y="3"/>
                    <a:pt x="1889" y="0"/>
                    <a:pt x="1912" y="0"/>
                  </a:cubicBezTo>
                  <a:cubicBezTo>
                    <a:pt x="1935" y="0"/>
                    <a:pt x="1967" y="3"/>
                    <a:pt x="1996" y="4"/>
                  </a:cubicBezTo>
                  <a:cubicBezTo>
                    <a:pt x="2025" y="5"/>
                    <a:pt x="2056" y="4"/>
                    <a:pt x="2084" y="8"/>
                  </a:cubicBezTo>
                  <a:cubicBezTo>
                    <a:pt x="2112" y="12"/>
                    <a:pt x="2137" y="23"/>
                    <a:pt x="2164" y="28"/>
                  </a:cubicBezTo>
                  <a:cubicBezTo>
                    <a:pt x="2191" y="33"/>
                    <a:pt x="2223" y="35"/>
                    <a:pt x="2248" y="40"/>
                  </a:cubicBezTo>
                  <a:cubicBezTo>
                    <a:pt x="2273" y="45"/>
                    <a:pt x="2286" y="53"/>
                    <a:pt x="2312" y="60"/>
                  </a:cubicBezTo>
                  <a:cubicBezTo>
                    <a:pt x="2338" y="67"/>
                    <a:pt x="2369" y="72"/>
                    <a:pt x="2404" y="84"/>
                  </a:cubicBezTo>
                  <a:cubicBezTo>
                    <a:pt x="2439" y="96"/>
                    <a:pt x="2497" y="120"/>
                    <a:pt x="2524" y="132"/>
                  </a:cubicBezTo>
                  <a:cubicBezTo>
                    <a:pt x="2551" y="144"/>
                    <a:pt x="2560" y="150"/>
                    <a:pt x="2568" y="156"/>
                  </a:cubicBezTo>
                </a:path>
              </a:pathLst>
            </a:custGeom>
            <a:noFill/>
            <a:ln w="28440">
              <a:solidFill>
                <a:srgbClr val="008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 flipV="1">
              <a:off x="2805120" y="3254400"/>
              <a:ext cx="0" cy="10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444320" y="3773520"/>
              <a:ext cx="1908720" cy="459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Comic Sans MS"/>
                </a:rPr>
                <a:t>x1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grpSp>
        <p:nvGrpSpPr>
          <p:cNvPr id="702" name=""/>
          <p:cNvGrpSpPr/>
          <p:nvPr/>
        </p:nvGrpSpPr>
        <p:grpSpPr>
          <a:xfrm>
            <a:off x="4940280" y="1874880"/>
            <a:ext cx="4140360" cy="3882960"/>
            <a:chOff x="4940280" y="1874880"/>
            <a:chExt cx="4140360" cy="3882960"/>
          </a:xfrm>
        </p:grpSpPr>
        <p:pic>
          <p:nvPicPr>
            <p:cNvPr id="703" name="" descr=""/>
            <p:cNvPicPr/>
            <p:nvPr/>
          </p:nvPicPr>
          <p:blipFill>
            <a:blip r:embed="rId2"/>
            <a:srcRect l="6549" t="0" r="0" b="0"/>
            <a:stretch/>
          </p:blipFill>
          <p:spPr>
            <a:xfrm>
              <a:off x="4940280" y="1874880"/>
              <a:ext cx="3781440" cy="388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4" name=""/>
            <p:cNvSpPr/>
            <p:nvPr/>
          </p:nvSpPr>
          <p:spPr>
            <a:xfrm>
              <a:off x="4954680" y="2187720"/>
              <a:ext cx="2789640" cy="1170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2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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8yrs (</a:t>
              </a:r>
              <a:r>
                <a:rPr b="1" lang="en-GB" sz="32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</a:t>
              </a:r>
              <a:r>
                <a:rPr b="0" lang="en-GB" sz="3200" spc="-1" strike="noStrike">
                  <a:solidFill>
                    <a:srgbClr val="003399"/>
                  </a:solidFill>
                  <a:latin typeface="Comic Sans MS"/>
                </a:rPr>
                <a:t>)</a:t>
              </a:r>
              <a:endParaRPr b="0" lang="en-US" sz="32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6443640" y="4707000"/>
              <a:ext cx="2637000" cy="368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3399"/>
                  </a:solidFill>
                  <a:latin typeface="Comic Sans MS"/>
                </a:rPr>
                <a:t>preliminary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 and SB flux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966960" y="1119240"/>
            <a:ext cx="7624440" cy="5405400"/>
          </a:xfrm>
          <a:prstGeom prst="rect">
            <a:avLst/>
          </a:prstGeom>
          <a:ln w="0">
            <a:noFill/>
          </a:ln>
        </p:spPr>
      </p:pic>
    </p:spTree>
  </p:cSld>
  <p:transition>
    <p:pull dir="lu"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17120" y="225000"/>
            <a:ext cx="81536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Gradients at 700 MHz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685800" y="1290600"/>
            <a:ext cx="5518080" cy="114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Last test performed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 in CryHoLab (July 04):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5-cells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700 MHz ß=0.</a:t>
            </a:r>
            <a:r>
              <a:rPr b="0" lang="fr-FR" sz="20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 Nb cavity 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5-01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558720"/>
                <a:tab algn="l" pos="1117440"/>
                <a:tab algn="l" pos="1676520"/>
                <a:tab algn="l" pos="2235240"/>
                <a:tab algn="l" pos="2793960"/>
                <a:tab algn="l" pos="3352680"/>
                <a:tab algn="l" pos="3911760"/>
                <a:tab algn="l" pos="4470480"/>
                <a:tab algn="l" pos="5029200"/>
                <a:tab algn="l" pos="5587920"/>
                <a:tab algn="l" pos="6146640"/>
                <a:tab algn="l" pos="6705720"/>
                <a:tab algn="l" pos="7264440"/>
                <a:tab algn="l" pos="7823160"/>
                <a:tab algn="l" pos="8381880"/>
                <a:tab algn="l" pos="8940960"/>
                <a:tab algn="l" pos="9499680"/>
                <a:tab algn="l" pos="10058400"/>
                <a:tab algn="l" pos="1061712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from CEA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/Saclay and </a:t>
            </a: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IPN-Orsay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08" name="" descr=""/>
          <p:cNvPicPr/>
          <p:nvPr/>
        </p:nvPicPr>
        <p:blipFill>
          <a:blip r:embed="rId1"/>
          <a:stretch/>
        </p:blipFill>
        <p:spPr>
          <a:xfrm>
            <a:off x="6588000" y="1614600"/>
            <a:ext cx="1758960" cy="4281480"/>
          </a:xfrm>
          <a:prstGeom prst="rect">
            <a:avLst/>
          </a:prstGeom>
          <a:ln w="0">
            <a:noFill/>
          </a:ln>
        </p:spPr>
      </p:pic>
      <p:sp>
        <p:nvSpPr>
          <p:cNvPr id="709" name=""/>
          <p:cNvSpPr/>
          <p:nvPr/>
        </p:nvSpPr>
        <p:spPr>
          <a:xfrm>
            <a:off x="708120" y="9064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from Stephane Chel, HIPPI04, Frankfurt, sep04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336600" y="5938920"/>
            <a:ext cx="8504280" cy="706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LEP cavities may have worked 350MHz &amp; 3.6MV/m effective gradient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3399"/>
                </a:solidFill>
                <a:latin typeface="Comic Sans MS"/>
              </a:rPr>
              <a:t>NuFact Note 040</a:t>
            </a:r>
            <a:endParaRPr b="0" lang="en-US" sz="1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11" name=""/>
          <p:cNvGrpSpPr/>
          <p:nvPr/>
        </p:nvGrpSpPr>
        <p:grpSpPr>
          <a:xfrm>
            <a:off x="746280" y="2359080"/>
            <a:ext cx="5256000" cy="3602160"/>
            <a:chOff x="746280" y="2359080"/>
            <a:chExt cx="5256000" cy="3602160"/>
          </a:xfrm>
        </p:grpSpPr>
        <p:pic>
          <p:nvPicPr>
            <p:cNvPr id="712" name="" descr=""/>
            <p:cNvPicPr/>
            <p:nvPr/>
          </p:nvPicPr>
          <p:blipFill>
            <a:blip r:embed="rId2"/>
            <a:stretch/>
          </p:blipFill>
          <p:spPr>
            <a:xfrm>
              <a:off x="746280" y="2359080"/>
              <a:ext cx="5256000" cy="360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3" name=""/>
            <p:cNvSpPr/>
            <p:nvPr/>
          </p:nvSpPr>
          <p:spPr>
            <a:xfrm>
              <a:off x="3165480" y="3454560"/>
              <a:ext cx="485640" cy="45864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ff0000"/>
            </a:solidFill>
            <a:ln w="9360">
              <a:solidFill>
                <a:srgbClr val="00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</p:spTree>
  </p:cSld>
  <p:transition>
    <p:pull dir="lu"/>
  </p:transition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hoice of the Energy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574560" y="1563840"/>
            <a:ext cx="8569440" cy="102528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2"/>
          <a:srcRect l="33647" t="1798" r="0" b="0"/>
          <a:stretch/>
        </p:blipFill>
        <p:spPr>
          <a:xfrm>
            <a:off x="2357280" y="2577960"/>
            <a:ext cx="3457800" cy="698760"/>
          </a:xfrm>
          <a:prstGeom prst="rect">
            <a:avLst/>
          </a:prstGeom>
          <a:ln w="0">
            <a:noFill/>
          </a:ln>
        </p:spPr>
      </p:pic>
      <p:sp>
        <p:nvSpPr>
          <p:cNvPr id="717" name=""/>
          <p:cNvSpPr/>
          <p:nvPr/>
        </p:nvSpPr>
        <p:spPr>
          <a:xfrm>
            <a:off x="682560" y="1003320"/>
            <a:ext cx="7713720" cy="45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Neglecting Matter effect (Ok CERN-Frejus), for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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CP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0°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638360" y="2743200"/>
            <a:ext cx="495360" cy="266760"/>
          </a:xfrm>
          <a:prstGeom prst="rightArrow">
            <a:avLst>
              <a:gd name="adj1" fmla="val 50000"/>
              <a:gd name="adj2" fmla="val 46424"/>
            </a:avLst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62000" y="3560760"/>
            <a:ext cx="606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aximum of probability is obtained for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 rot="16200000">
            <a:off x="1644480" y="3994200"/>
            <a:ext cx="279360" cy="1942920"/>
          </a:xfrm>
          <a:custGeom>
            <a:avLst/>
            <a:gdLst>
              <a:gd name="textAreaLeft" fmla="*/ 178560 w 279360"/>
              <a:gd name="textAreaRight" fmla="*/ 279720 w 279360"/>
              <a:gd name="textAreaTop" fmla="*/ 50400 h 1942920"/>
              <a:gd name="textAreaBottom" fmla="*/ 1892520 h 194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44640" y="5186520"/>
            <a:ext cx="355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famillies formula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4273920" y="0"/>
            <a:ext cx="547308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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4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L=130km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391320" y="6056280"/>
            <a:ext cx="2861280" cy="440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 250MeV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6097320" y="357120"/>
            <a:ext cx="3607200" cy="37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c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s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1/√2,tan</a:t>
            </a:r>
            <a:r>
              <a:rPr b="0" lang="en-US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US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US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US" sz="1600" spc="-1" strike="noStrike">
                <a:solidFill>
                  <a:srgbClr val="003399"/>
                </a:solidFill>
                <a:latin typeface="Comic Sans MS"/>
              </a:rPr>
              <a:t>=0.4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25" name=""/>
          <p:cNvGrpSpPr/>
          <p:nvPr/>
        </p:nvGrpSpPr>
        <p:grpSpPr>
          <a:xfrm>
            <a:off x="820800" y="4025880"/>
            <a:ext cx="7821360" cy="736560"/>
            <a:chOff x="820800" y="4025880"/>
            <a:chExt cx="7821360" cy="736560"/>
          </a:xfrm>
        </p:grpSpPr>
        <p:pic>
          <p:nvPicPr>
            <p:cNvPr id="726" name="" descr=""/>
            <p:cNvPicPr/>
            <p:nvPr/>
          </p:nvPicPr>
          <p:blipFill>
            <a:blip r:embed="rId3">
              <a:lum contrast="24000"/>
            </a:blip>
            <a:srcRect l="23671" t="0" r="22290" b="46881"/>
            <a:stretch/>
          </p:blipFill>
          <p:spPr>
            <a:xfrm>
              <a:off x="820800" y="4025880"/>
              <a:ext cx="2760120" cy="708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27" name="" descr=""/>
            <p:cNvPicPr/>
            <p:nvPr/>
          </p:nvPicPr>
          <p:blipFill>
            <a:blip r:embed="rId4">
              <a:lum contrast="24000"/>
            </a:blip>
            <a:srcRect l="0" t="50378" r="0" b="0"/>
            <a:stretch/>
          </p:blipFill>
          <p:spPr>
            <a:xfrm>
              <a:off x="3534840" y="4062960"/>
              <a:ext cx="5107320" cy="66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28" name=""/>
            <p:cNvSpPr/>
            <p:nvPr/>
          </p:nvSpPr>
          <p:spPr>
            <a:xfrm>
              <a:off x="860760" y="4053600"/>
              <a:ext cx="1908000" cy="7088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29" name=""/>
          <p:cNvSpPr/>
          <p:nvPr/>
        </p:nvSpPr>
        <p:spPr>
          <a:xfrm rot="5400000">
            <a:off x="1682280" y="5663880"/>
            <a:ext cx="279360" cy="3049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2996640" y="5041800"/>
            <a:ext cx="635040" cy="304920"/>
          </a:xfrm>
          <a:prstGeom prst="rightArrow">
            <a:avLst>
              <a:gd name="adj1" fmla="val 50000"/>
              <a:gd name="adj2" fmla="val 52066"/>
            </a:avLst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2685600" y="5656320"/>
            <a:ext cx="4439880" cy="8506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2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=10</a:t>
            </a:r>
            <a:r>
              <a:rPr b="0" lang="en-GB" sz="20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, E</a:t>
            </a:r>
            <a:r>
              <a:rPr b="0" lang="en-GB" sz="2000" spc="-1" strike="noStrike" baseline="-25000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=390MeV 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2997360" y="4013280"/>
            <a:ext cx="520560" cy="74916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7213680" y="4368960"/>
            <a:ext cx="596880" cy="36828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"/>
          <p:cNvSpPr/>
          <p:nvPr/>
        </p:nvSpPr>
        <p:spPr>
          <a:xfrm>
            <a:off x="1257480" y="617220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eam Energy comparison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736" name=""/>
          <p:cNvSpPr/>
          <p:nvPr/>
        </p:nvSpPr>
        <p:spPr>
          <a:xfrm>
            <a:off x="-211320" y="5613480"/>
            <a:ext cx="486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3399"/>
                </a:solidFill>
                <a:latin typeface="Comic Sans MS"/>
              </a:rPr>
              <a:t>hep-ex/0411062 with an early version of analysis</a:t>
            </a:r>
            <a:endParaRPr b="0" lang="en-US" sz="12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37" name=""/>
          <p:cNvGrpSpPr/>
          <p:nvPr/>
        </p:nvGrpSpPr>
        <p:grpSpPr>
          <a:xfrm>
            <a:off x="4538160" y="1465200"/>
            <a:ext cx="4404240" cy="4084560"/>
            <a:chOff x="4538160" y="1465200"/>
            <a:chExt cx="4404240" cy="4084560"/>
          </a:xfrm>
        </p:grpSpPr>
        <p:pic>
          <p:nvPicPr>
            <p:cNvPr id="738" name="" descr=""/>
            <p:cNvPicPr/>
            <p:nvPr/>
          </p:nvPicPr>
          <p:blipFill>
            <a:blip r:embed="rId1"/>
            <a:stretch/>
          </p:blipFill>
          <p:spPr>
            <a:xfrm>
              <a:off x="4573440" y="1465200"/>
              <a:ext cx="4368960" cy="408456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39" name=""/>
            <p:cNvSpPr/>
            <p:nvPr/>
          </p:nvSpPr>
          <p:spPr>
            <a:xfrm>
              <a:off x="4784760" y="5159520"/>
              <a:ext cx="1301760" cy="176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544360" y="51688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853160" y="51562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7032600" y="5197320"/>
              <a:ext cx="1300320" cy="1764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7693200" y="518148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986520" y="5194440"/>
              <a:ext cx="517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4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5222160" y="2033640"/>
              <a:ext cx="560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5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7298640" y="1944720"/>
              <a:ext cx="5601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y+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y-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5969160" y="3568680"/>
              <a:ext cx="1427040" cy="11912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2.2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3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4.5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ahoma"/>
                </a:rPr>
                <a:t>8GeV</a:t>
              </a:r>
              <a:endParaRPr b="0" lang="en-US" sz="18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6084720" y="3789360"/>
              <a:ext cx="241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6084720" y="4027320"/>
              <a:ext cx="241560" cy="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6084720" y="4305240"/>
              <a:ext cx="241560" cy="0"/>
            </a:xfrm>
            <a:prstGeom prst="line">
              <a:avLst/>
            </a:prstGeom>
            <a:ln w="28440">
              <a:solidFill>
                <a:srgbClr val="66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6099120" y="4556160"/>
              <a:ext cx="241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4813200" y="1585800"/>
              <a:ext cx="241560" cy="3448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4541400" y="418932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0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4652280" y="3686040"/>
              <a:ext cx="442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4813920" y="3170160"/>
              <a:ext cx="28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4720680" y="2654280"/>
              <a:ext cx="384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4538160" y="4692600"/>
              <a:ext cx="545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Tahoma"/>
                </a:rPr>
                <a:t>-150</a:t>
              </a:r>
              <a:endParaRPr b="0" lang="en-US" sz="1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7683480" y="2108160"/>
              <a:ext cx="820800" cy="527040"/>
            </a:xfrm>
            <a:prstGeom prst="ellipse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59" name=""/>
          <p:cNvSpPr/>
          <p:nvPr/>
        </p:nvSpPr>
        <p:spPr>
          <a:xfrm>
            <a:off x="4543920" y="5784840"/>
            <a:ext cx="5068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3.5GeV is an optimum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760" name=""/>
          <p:cNvGrpSpPr/>
          <p:nvPr/>
        </p:nvGrpSpPr>
        <p:grpSpPr>
          <a:xfrm>
            <a:off x="293760" y="1447920"/>
            <a:ext cx="4151160" cy="4147200"/>
            <a:chOff x="293760" y="1447920"/>
            <a:chExt cx="4151160" cy="4147200"/>
          </a:xfrm>
        </p:grpSpPr>
        <p:pic>
          <p:nvPicPr>
            <p:cNvPr id="761" name="" descr=""/>
            <p:cNvPicPr/>
            <p:nvPr/>
          </p:nvPicPr>
          <p:blipFill>
            <a:blip r:embed="rId2"/>
            <a:stretch/>
          </p:blipFill>
          <p:spPr>
            <a:xfrm>
              <a:off x="406440" y="1447920"/>
              <a:ext cx="3957480" cy="4114800"/>
            </a:xfrm>
            <a:prstGeom prst="rect">
              <a:avLst/>
            </a:prstGeom>
            <a:ln w="28440">
              <a:solidFill>
                <a:srgbClr val="000000"/>
              </a:solidFill>
              <a:miter/>
            </a:ln>
          </p:spPr>
        </p:pic>
        <p:sp>
          <p:nvSpPr>
            <p:cNvPr id="762" name=""/>
            <p:cNvSpPr/>
            <p:nvPr/>
          </p:nvSpPr>
          <p:spPr>
            <a:xfrm>
              <a:off x="791640" y="2895480"/>
              <a:ext cx="1511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Symbol"/>
                  <a:ea typeface="Symbol"/>
                </a:rPr>
                <a:t>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~260MeV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3276000" y="4648320"/>
              <a:ext cx="10278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5ba75"/>
                  </a:solidFill>
                  <a:latin typeface="Symbol"/>
                  <a:ea typeface="Symbol"/>
                </a:rPr>
                <a:t></a:t>
              </a:r>
              <a:r>
                <a:rPr b="1" lang="fr-FR" sz="2400" spc="-1" strike="noStrike" baseline="-25000">
                  <a:solidFill>
                    <a:srgbClr val="e5ba75"/>
                  </a:solidFill>
                  <a:latin typeface="Tahoma"/>
                </a:rPr>
                <a:t>CP </a:t>
              </a:r>
              <a:r>
                <a:rPr b="1" lang="fr-FR" sz="2400" spc="-1" strike="noStrike">
                  <a:solidFill>
                    <a:srgbClr val="e5ba75"/>
                  </a:solidFill>
                  <a:latin typeface="Tahoma"/>
                </a:rPr>
                <a:t>= 0</a:t>
              </a:r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360440" y="5168880"/>
              <a:ext cx="51732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3632040" y="5273640"/>
              <a:ext cx="714600" cy="2746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3365640" y="5154480"/>
              <a:ext cx="107928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sin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13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401760" y="1455840"/>
              <a:ext cx="352440" cy="3456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293760" y="4178160"/>
              <a:ext cx="606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Tahoma"/>
                </a:rPr>
                <a:t>10</a:t>
              </a:r>
              <a:r>
                <a:rPr b="1" lang="en-US" sz="1600" spc="-1" strike="noStrike" baseline="30000">
                  <a:solidFill>
                    <a:srgbClr val="000099"/>
                  </a:solidFill>
                  <a:latin typeface="Tahoma"/>
                </a:rPr>
                <a:t>-3</a:t>
              </a:r>
              <a:endParaRPr b="0" lang="en-US" sz="16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 rot="16200000">
              <a:off x="-120600" y="1975320"/>
              <a:ext cx="1473120" cy="44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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Tahoma"/>
                </a:rPr>
                <a:t>23 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(eV</a:t>
              </a:r>
              <a:r>
                <a:rPr b="0" lang="en-US" sz="2000" spc="-1" strike="noStrike" baseline="30000">
                  <a:solidFill>
                    <a:srgbClr val="000000"/>
                  </a:solidFill>
                  <a:latin typeface="Tahoma"/>
                </a:rPr>
                <a:t>2</a:t>
              </a: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770" name=""/>
          <p:cNvSpPr/>
          <p:nvPr/>
        </p:nvSpPr>
        <p:spPr>
          <a:xfrm>
            <a:off x="1308240" y="3530520"/>
            <a:ext cx="820440" cy="5270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7120" y="19224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Analysis: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GLoBES + M. Mezzetto’s parameterization file</a:t>
            </a:r>
            <a:endParaRPr b="0" lang="en-US" sz="2000" spc="-1" strike="noStrike">
              <a:solidFill>
                <a:srgbClr val="003399"/>
              </a:solidFill>
              <a:latin typeface="Comic Sans MS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1146240" y="1260360"/>
          <a:ext cx="7029360" cy="4135680"/>
        </p:xfrm>
        <a:graphic>
          <a:graphicData uri="http://schemas.openxmlformats.org/drawingml/2006/table">
            <a:tbl>
              <a:tblPr/>
              <a:tblGrid>
                <a:gridCol w="1406160"/>
                <a:gridCol w="1395360"/>
                <a:gridCol w="1338480"/>
                <a:gridCol w="1569960"/>
                <a:gridCol w="1319400"/>
              </a:tblGrid>
              <a:tr h="48096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1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= 3°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sin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</a:t>
                      </a:r>
                      <a:r>
                        <a:rPr b="0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13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= 0.05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3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220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3670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 row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150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64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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0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from NC</a:t>
                      </a:r>
                      <a:r>
                        <a:rPr b="1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CC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missId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 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1" lang="en-GB" sz="1600" spc="-1" strike="noStrike" baseline="-25000">
                          <a:solidFill>
                            <a:srgbClr val="003399"/>
                          </a:solidFill>
                          <a:latin typeface="Comic Sans MS"/>
                        </a:rPr>
                        <a:t>e</a:t>
                      </a:r>
                      <a:r>
                        <a:rPr b="1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 CC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Frac. of Bkg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90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3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1%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Reduction Factor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>
                      <a:noFill/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707(106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6.5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90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5.4 10</a:t>
                      </a:r>
                      <a:r>
                        <a:rPr b="0" lang="en-GB" sz="1600" spc="-1" strike="noStrike" baseline="30000">
                          <a:solidFill>
                            <a:srgbClr val="003399"/>
                          </a:solidFill>
                          <a:latin typeface="Comic Sans MS"/>
                        </a:rPr>
                        <a:t>-4</a:t>
                      </a: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(4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600" spc="-1" strike="noStrike">
                          <a:solidFill>
                            <a:srgbClr val="003399"/>
                          </a:solidFill>
                          <a:latin typeface="Comic Sans MS"/>
                        </a:rPr>
                        <a:t>0.677(15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1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008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(Si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950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/2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8000"/>
                          </a:solidFill>
                          <a:latin typeface="Comic Sans MS"/>
                        </a:rPr>
                        <a:t>64414 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</a:t>
                      </a:r>
                      <a:r>
                        <a:rPr b="1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18720">
                      <a:solidFill>
                        <a:srgbClr val="000099"/>
                      </a:solidFill>
                    </a:lnT>
                    <a:lnB w="576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258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</a:t>
                      </a:r>
                      <a:r>
                        <a:rPr b="1" lang="en-GB" sz="1600" spc="-1" strike="noStrike" baseline="-25000">
                          <a:solidFill>
                            <a:srgbClr val="ff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 </a:t>
                      </a: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(Bkg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99"/>
                      </a:solidFill>
                    </a:lnL>
                    <a:lnR w="576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gridSpan="4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(4.310</a:t>
                      </a:r>
                      <a:r>
                        <a:rPr b="0" lang="en-GB" sz="1600" spc="-1" strike="noStrike" baseline="30000">
                          <a:solidFill>
                            <a:srgbClr val="000099"/>
                          </a:solidFill>
                          <a:latin typeface="Comic Sans MS"/>
                        </a:rPr>
                        <a:t>-5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</a:t>
                      </a:r>
                      <a:r>
                        <a:rPr b="0" lang="en-GB" sz="1600" spc="-1" strike="noStrike" baseline="-25000">
                          <a:solidFill>
                            <a:srgbClr val="000099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GB" sz="1600" spc="-1" strike="noStrike">
                          <a:solidFill>
                            <a:srgbClr val="000099"/>
                          </a:solidFill>
                          <a:latin typeface="Comic Sans MS"/>
                        </a:rPr>
                        <a:t>  CC)</a:t>
                      </a:r>
                      <a:endParaRPr b="0" lang="en-US" sz="16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99"/>
                      </a:solidFill>
                    </a:lnL>
                    <a:lnR w="18720">
                      <a:solidFill>
                        <a:srgbClr val="000099"/>
                      </a:solidFill>
                    </a:lnR>
                    <a:lnT w="5760">
                      <a:solidFill>
                        <a:srgbClr val="000099"/>
                      </a:solidFill>
                    </a:lnT>
                    <a:lnB w="18720">
                      <a:solidFill>
                        <a:srgbClr val="000099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53" name=""/>
          <p:cNvSpPr/>
          <p:nvPr/>
        </p:nvSpPr>
        <p:spPr>
          <a:xfrm>
            <a:off x="3791160" y="744480"/>
            <a:ext cx="48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40kT x 5yrs</a:t>
            </a:r>
            <a:r>
              <a:rPr b="0" lang="fr-FR" sz="2000" spc="-1" strike="noStrike">
                <a:solidFill>
                  <a:srgbClr val="003399"/>
                </a:solidFill>
                <a:latin typeface="Comic Sans MS"/>
              </a:rPr>
              <a:t>: 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2,2 Mt.yrs (+)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170000" y="5477040"/>
            <a:ext cx="6319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sin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1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0.82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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/4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2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8.1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5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, </a:t>
            </a:r>
            <a:r>
              <a:rPr b="1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</a:t>
            </a:r>
            <a:r>
              <a:rPr b="1" lang="en-GB" sz="1600" spc="-1" strike="noStrike">
                <a:solidFill>
                  <a:srgbClr val="003399"/>
                </a:solidFill>
                <a:latin typeface="Comic Sans MS"/>
              </a:rPr>
              <a:t>m</a:t>
            </a:r>
            <a:r>
              <a:rPr b="1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r>
              <a:rPr b="1" lang="en-GB" sz="1600" spc="-1" strike="noStrike" baseline="-25000">
                <a:solidFill>
                  <a:srgbClr val="003399"/>
                </a:solidFill>
                <a:latin typeface="Comic Sans MS"/>
              </a:rPr>
              <a:t>31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=2.2 10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-3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eV</a:t>
            </a:r>
            <a:r>
              <a:rPr b="0" lang="en-GB" sz="1600" spc="-1" strike="noStrike" baseline="30000">
                <a:solidFill>
                  <a:srgbClr val="003399"/>
                </a:solidFill>
                <a:latin typeface="Comic Sans MS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41240" y="5851440"/>
            <a:ext cx="80424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Reduction factor and efficiencies taken from SK simulation (D. Casper) and a tight cut for e/</a:t>
            </a:r>
            <a:r>
              <a:rPr b="0" lang="en-GB" sz="1600" spc="-1" strike="noStrike">
                <a:solidFill>
                  <a:srgbClr val="003399"/>
                </a:solidFill>
                <a:latin typeface="Symbol"/>
                <a:ea typeface="Symbol"/>
              </a:rPr>
              <a:t></a:t>
            </a: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 misId. (cf. hep-ph/0105297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6" name=""/>
          <p:cNvGrpSpPr/>
          <p:nvPr/>
        </p:nvGrpSpPr>
        <p:grpSpPr>
          <a:xfrm>
            <a:off x="163440" y="1050840"/>
            <a:ext cx="5405400" cy="5472360"/>
            <a:chOff x="163440" y="1050840"/>
            <a:chExt cx="5405400" cy="5472360"/>
          </a:xfrm>
        </p:grpSpPr>
        <p:sp>
          <p:nvSpPr>
            <p:cNvPr id="157" name=""/>
            <p:cNvSpPr/>
            <p:nvPr/>
          </p:nvSpPr>
          <p:spPr>
            <a:xfrm>
              <a:off x="163440" y="1050840"/>
              <a:ext cx="5405400" cy="5472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pic>
          <p:nvPicPr>
            <p:cNvPr id="158" name="" descr=""/>
            <p:cNvPicPr/>
            <p:nvPr/>
          </p:nvPicPr>
          <p:blipFill>
            <a:blip r:embed="rId1"/>
            <a:stretch/>
          </p:blipFill>
          <p:spPr>
            <a:xfrm>
              <a:off x="237960" y="1055520"/>
              <a:ext cx="5267520" cy="2729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66760" y="3738600"/>
              <a:ext cx="5235480" cy="27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0" name=""/>
            <p:cNvSpPr/>
            <p:nvPr/>
          </p:nvSpPr>
          <p:spPr>
            <a:xfrm flipV="1">
              <a:off x="1496880" y="1255680"/>
              <a:ext cx="0" cy="481824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 flipV="1">
              <a:off x="4213080" y="1342800"/>
              <a:ext cx="0" cy="48178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62480" y="567684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421080" y="3035160"/>
              <a:ext cx="19652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2040" y="49910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68160" y="4749840"/>
              <a:ext cx="198144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674640" y="235584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81120" y="2104920"/>
              <a:ext cx="1981080" cy="0"/>
            </a:xfrm>
            <a:prstGeom prst="line">
              <a:avLst/>
            </a:prstGeom>
            <a:ln w="9360">
              <a:solidFill>
                <a:srgbClr val="0000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11280" y="130968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213080" y="1325520"/>
              <a:ext cx="763560" cy="4749840"/>
            </a:xfrm>
            <a:prstGeom prst="rect">
              <a:avLst/>
            </a:prstGeom>
            <a:solidFill>
              <a:srgbClr val="969696">
                <a:alpha val="2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Comic Sans MS"/>
              </a:rPr>
              <a:t>Kaon/pion production?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1" name=""/>
          <p:cNvSpPr/>
          <p:nvPr/>
        </p:nvSpPr>
        <p:spPr>
          <a:xfrm>
            <a:off x="6321960" y="0"/>
            <a:ext cx="3394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eliminary (15/9/05)</a:t>
            </a:r>
            <a:endParaRPr b="0" lang="en-US" sz="16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044320" y="2031840"/>
            <a:ext cx="4054320" cy="459720"/>
          </a:xfrm>
          <a:prstGeom prst="leftArrowCallout">
            <a:avLst>
              <a:gd name="adj1" fmla="val 48301"/>
              <a:gd name="adj2" fmla="val 50000"/>
              <a:gd name="adj3" fmla="val 101052"/>
              <a:gd name="adj4" fmla="val 82739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5.6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5400" y="4896000"/>
            <a:ext cx="4183560" cy="459720"/>
          </a:xfrm>
          <a:prstGeom prst="leftArrowCallout">
            <a:avLst>
              <a:gd name="adj1" fmla="val 25002"/>
              <a:gd name="adj2" fmla="val 50000"/>
              <a:gd name="adj3" fmla="val 151671"/>
              <a:gd name="adj4" fmla="val 80183"/>
            </a:avLst>
          </a:prstGeom>
          <a:noFill/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FLUKA 2002.4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408720" y="5859360"/>
            <a:ext cx="263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HARP?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90640" y="2503440"/>
            <a:ext cx="410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+12.5% </a:t>
            </a:r>
            <a:r>
              <a:rPr b="0" lang="fr-FR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fr-FR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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@3.5GeV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722920" y="3335400"/>
            <a:ext cx="3255840" cy="11127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Big difference [3.5 </a:t>
            </a:r>
            <a:r>
              <a:rPr b="0" lang="en-US" sz="3200" spc="-1" strike="noStrike">
                <a:solidFill>
                  <a:srgbClr val="003399"/>
                </a:solidFill>
                <a:latin typeface="Comic Sans MS"/>
              </a:rPr>
              <a:t>÷ 4.5] GeV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717120" y="320760"/>
            <a:ext cx="81536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The X-section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sp>
        <p:nvSpPr>
          <p:cNvPr id="178" name=""/>
          <p:cNvSpPr/>
          <p:nvPr/>
        </p:nvSpPr>
        <p:spPr>
          <a:xfrm>
            <a:off x="666720" y="4348080"/>
            <a:ext cx="8477280" cy="139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3399"/>
                </a:solidFill>
                <a:latin typeface="Symbol"/>
                <a:ea typeface="Symbol"/>
              </a:rPr>
              <a:t></a:t>
            </a:r>
            <a:r>
              <a:rPr b="0" lang="en-GB" sz="2800" spc="-1" strike="noStrike">
                <a:solidFill>
                  <a:srgbClr val="003399"/>
                </a:solidFill>
                <a:latin typeface="Comic Sans MS"/>
              </a:rPr>
              <a:t>B is an ideal tool to measure these cross-sections and a 2% systematic error on both signal and background are used. </a:t>
            </a:r>
            <a:endParaRPr b="0" lang="en-US" sz="28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146640" y="2719440"/>
            <a:ext cx="2710080" cy="79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---: Lipari et al.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PRL</a:t>
            </a:r>
            <a:r>
              <a:rPr b="1" lang="fr-FR" sz="1600" spc="-1" strike="noStrike">
                <a:solidFill>
                  <a:srgbClr val="003399"/>
                </a:solidFill>
                <a:latin typeface="Comic Sans MS"/>
              </a:rPr>
              <a:t>74</a:t>
            </a:r>
            <a:r>
              <a:rPr b="0" lang="fr-FR" sz="1600" spc="-1" strike="noStrike">
                <a:solidFill>
                  <a:srgbClr val="003399"/>
                </a:solidFill>
                <a:latin typeface="Comic Sans MS"/>
              </a:rPr>
              <a:t>(95)4384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  <a:p>
            <a:pPr marL="609480" indent="-60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on H</a:t>
            </a:r>
            <a:r>
              <a:rPr b="0" lang="fr-FR" sz="2400" spc="-1" strike="noStrike" baseline="-25000">
                <a:solidFill>
                  <a:srgbClr val="003399"/>
                </a:solidFill>
                <a:latin typeface="Comic Sans MS"/>
              </a:rPr>
              <a:t>2</a:t>
            </a:r>
            <a:r>
              <a:rPr b="0" lang="fr-FR" sz="2400" spc="-1" strike="noStrike">
                <a:solidFill>
                  <a:srgbClr val="003399"/>
                </a:solidFill>
                <a:latin typeface="Comic Sans MS"/>
              </a:rPr>
              <a:t>0</a:t>
            </a:r>
            <a:endParaRPr b="0" lang="en-US" sz="2400" spc="-1" strike="noStrike">
              <a:solidFill>
                <a:srgbClr val="000099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804960" y="1015920"/>
            <a:ext cx="5236920" cy="3385800"/>
            <a:chOff x="804960" y="1015920"/>
            <a:chExt cx="5236920" cy="3385800"/>
          </a:xfrm>
        </p:grpSpPr>
        <p:grpSp>
          <p:nvGrpSpPr>
            <p:cNvPr id="181" name=""/>
            <p:cNvGrpSpPr/>
            <p:nvPr/>
          </p:nvGrpSpPr>
          <p:grpSpPr>
            <a:xfrm>
              <a:off x="804960" y="1015920"/>
              <a:ext cx="5236920" cy="3385800"/>
              <a:chOff x="804960" y="1015920"/>
              <a:chExt cx="5236920" cy="3385800"/>
            </a:xfrm>
          </p:grpSpPr>
          <p:sp>
            <p:nvSpPr>
              <p:cNvPr id="182" name=""/>
              <p:cNvSpPr/>
              <p:nvPr/>
            </p:nvSpPr>
            <p:spPr>
              <a:xfrm>
                <a:off x="811080" y="1025280"/>
                <a:ext cx="5230440" cy="3376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  <p:grpSp>
            <p:nvGrpSpPr>
              <p:cNvPr id="183" name=""/>
              <p:cNvGrpSpPr/>
              <p:nvPr/>
            </p:nvGrpSpPr>
            <p:grpSpPr>
              <a:xfrm>
                <a:off x="804960" y="1015920"/>
                <a:ext cx="5236920" cy="3369600"/>
                <a:chOff x="804960" y="1015920"/>
                <a:chExt cx="5236920" cy="3369600"/>
              </a:xfrm>
            </p:grpSpPr>
            <p:pic>
              <p:nvPicPr>
                <p:cNvPr id="184" name="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804960" y="1015920"/>
                  <a:ext cx="5236920" cy="3369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5" name=""/>
                <p:cNvSpPr/>
                <p:nvPr/>
              </p:nvSpPr>
              <p:spPr>
                <a:xfrm>
                  <a:off x="2055240" y="2666160"/>
                  <a:ext cx="3550320" cy="1290240"/>
                </a:xfrm>
                <a:custGeom>
                  <a:avLst/>
                  <a:gdLst/>
                  <a:ahLst/>
                  <a:rect l="l" t="t" r="r" b="b"/>
                  <a:pathLst>
                    <a:path w="3735" h="1733">
                      <a:moveTo>
                        <a:pt x="0" y="1718"/>
                      </a:moveTo>
                      <a:cubicBezTo>
                        <a:pt x="84" y="1725"/>
                        <a:pt x="168" y="1733"/>
                        <a:pt x="225" y="1700"/>
                      </a:cubicBezTo>
                      <a:cubicBezTo>
                        <a:pt x="282" y="1667"/>
                        <a:pt x="304" y="1625"/>
                        <a:pt x="342" y="1520"/>
                      </a:cubicBezTo>
                      <a:cubicBezTo>
                        <a:pt x="380" y="1415"/>
                        <a:pt x="416" y="1190"/>
                        <a:pt x="450" y="1070"/>
                      </a:cubicBezTo>
                      <a:cubicBezTo>
                        <a:pt x="484" y="950"/>
                        <a:pt x="515" y="888"/>
                        <a:pt x="549" y="800"/>
                      </a:cubicBezTo>
                      <a:cubicBezTo>
                        <a:pt x="583" y="712"/>
                        <a:pt x="612" y="635"/>
                        <a:pt x="657" y="539"/>
                      </a:cubicBezTo>
                      <a:cubicBezTo>
                        <a:pt x="702" y="443"/>
                        <a:pt x="761" y="308"/>
                        <a:pt x="819" y="224"/>
                      </a:cubicBezTo>
                      <a:cubicBezTo>
                        <a:pt x="877" y="140"/>
                        <a:pt x="939" y="70"/>
                        <a:pt x="1008" y="35"/>
                      </a:cubicBezTo>
                      <a:cubicBezTo>
                        <a:pt x="1077" y="0"/>
                        <a:pt x="1151" y="17"/>
                        <a:pt x="1233" y="17"/>
                      </a:cubicBezTo>
                      <a:cubicBezTo>
                        <a:pt x="1315" y="17"/>
                        <a:pt x="1377" y="19"/>
                        <a:pt x="1503" y="35"/>
                      </a:cubicBezTo>
                      <a:cubicBezTo>
                        <a:pt x="1629" y="51"/>
                        <a:pt x="1781" y="85"/>
                        <a:pt x="1989" y="116"/>
                      </a:cubicBezTo>
                      <a:cubicBezTo>
                        <a:pt x="2197" y="147"/>
                        <a:pt x="2556" y="200"/>
                        <a:pt x="2754" y="224"/>
                      </a:cubicBezTo>
                      <a:cubicBezTo>
                        <a:pt x="2952" y="248"/>
                        <a:pt x="3054" y="242"/>
                        <a:pt x="3177" y="260"/>
                      </a:cubicBezTo>
                      <a:cubicBezTo>
                        <a:pt x="3300" y="278"/>
                        <a:pt x="3399" y="320"/>
                        <a:pt x="3492" y="332"/>
                      </a:cubicBezTo>
                      <a:cubicBezTo>
                        <a:pt x="3585" y="344"/>
                        <a:pt x="3695" y="332"/>
                        <a:pt x="3735" y="332"/>
                      </a:cubicBezTo>
                    </a:path>
                  </a:pathLst>
                </a:custGeom>
                <a:noFill/>
                <a:ln w="38160">
                  <a:solidFill>
                    <a:srgbClr val="000099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t">
                  <a:noAutofit/>
                </a:bodyPr>
                <a:p>
                  <a:endParaRPr b="0" lang="en-US" sz="2400" spc="-1" strike="noStrike">
                    <a:solidFill>
                      <a:srgbClr val="000099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86" name=""/>
              <p:cNvSpPr/>
              <p:nvPr/>
            </p:nvSpPr>
            <p:spPr>
              <a:xfrm>
                <a:off x="1578600" y="2615040"/>
                <a:ext cx="1652040" cy="1346040"/>
              </a:xfrm>
              <a:custGeom>
                <a:avLst/>
                <a:gdLst/>
                <a:ahLst/>
                <a:rect l="l" t="t" r="r" b="b"/>
                <a:pathLst>
                  <a:path w="1518" h="1234">
                    <a:moveTo>
                      <a:pt x="0" y="1234"/>
                    </a:moveTo>
                    <a:cubicBezTo>
                      <a:pt x="7" y="1217"/>
                      <a:pt x="24" y="1147"/>
                      <a:pt x="43" y="1122"/>
                    </a:cubicBezTo>
                    <a:cubicBezTo>
                      <a:pt x="62" y="1097"/>
                      <a:pt x="93" y="1094"/>
                      <a:pt x="117" y="1085"/>
                    </a:cubicBezTo>
                    <a:cubicBezTo>
                      <a:pt x="141" y="1076"/>
                      <a:pt x="153" y="1079"/>
                      <a:pt x="187" y="1066"/>
                    </a:cubicBezTo>
                    <a:cubicBezTo>
                      <a:pt x="222" y="1054"/>
                      <a:pt x="281" y="1028"/>
                      <a:pt x="323" y="1010"/>
                    </a:cubicBezTo>
                    <a:cubicBezTo>
                      <a:pt x="364" y="992"/>
                      <a:pt x="403" y="978"/>
                      <a:pt x="436" y="957"/>
                    </a:cubicBezTo>
                    <a:cubicBezTo>
                      <a:pt x="470" y="936"/>
                      <a:pt x="493" y="916"/>
                      <a:pt x="523" y="884"/>
                    </a:cubicBezTo>
                    <a:cubicBezTo>
                      <a:pt x="553" y="852"/>
                      <a:pt x="584" y="827"/>
                      <a:pt x="615" y="768"/>
                    </a:cubicBezTo>
                    <a:cubicBezTo>
                      <a:pt x="646" y="709"/>
                      <a:pt x="686" y="595"/>
                      <a:pt x="712" y="528"/>
                    </a:cubicBezTo>
                    <a:cubicBezTo>
                      <a:pt x="738" y="462"/>
                      <a:pt x="755" y="416"/>
                      <a:pt x="772" y="369"/>
                    </a:cubicBezTo>
                    <a:cubicBezTo>
                      <a:pt x="788" y="322"/>
                      <a:pt x="795" y="281"/>
                      <a:pt x="809" y="246"/>
                    </a:cubicBezTo>
                    <a:cubicBezTo>
                      <a:pt x="824" y="211"/>
                      <a:pt x="843" y="193"/>
                      <a:pt x="858" y="160"/>
                    </a:cubicBezTo>
                    <a:cubicBezTo>
                      <a:pt x="874" y="127"/>
                      <a:pt x="890" y="71"/>
                      <a:pt x="901" y="47"/>
                    </a:cubicBezTo>
                    <a:cubicBezTo>
                      <a:pt x="913" y="23"/>
                      <a:pt x="918" y="21"/>
                      <a:pt x="928" y="14"/>
                    </a:cubicBezTo>
                    <a:cubicBezTo>
                      <a:pt x="939" y="6"/>
                      <a:pt x="951" y="1"/>
                      <a:pt x="966" y="0"/>
                    </a:cubicBezTo>
                    <a:cubicBezTo>
                      <a:pt x="981" y="0"/>
                      <a:pt x="1008" y="6"/>
                      <a:pt x="1020" y="10"/>
                    </a:cubicBezTo>
                    <a:cubicBezTo>
                      <a:pt x="1032" y="15"/>
                      <a:pt x="1028" y="13"/>
                      <a:pt x="1037" y="27"/>
                    </a:cubicBezTo>
                    <a:cubicBezTo>
                      <a:pt x="1046" y="41"/>
                      <a:pt x="1063" y="64"/>
                      <a:pt x="1073" y="92"/>
                    </a:cubicBezTo>
                    <a:cubicBezTo>
                      <a:pt x="1082" y="121"/>
                      <a:pt x="1086" y="149"/>
                      <a:pt x="1093" y="197"/>
                    </a:cubicBezTo>
                    <a:cubicBezTo>
                      <a:pt x="1100" y="245"/>
                      <a:pt x="1110" y="319"/>
                      <a:pt x="1118" y="382"/>
                    </a:cubicBezTo>
                    <a:cubicBezTo>
                      <a:pt x="1126" y="446"/>
                      <a:pt x="1132" y="513"/>
                      <a:pt x="1139" y="578"/>
                    </a:cubicBezTo>
                    <a:cubicBezTo>
                      <a:pt x="1147" y="644"/>
                      <a:pt x="1154" y="717"/>
                      <a:pt x="1160" y="775"/>
                    </a:cubicBezTo>
                    <a:cubicBezTo>
                      <a:pt x="1166" y="833"/>
                      <a:pt x="1172" y="884"/>
                      <a:pt x="1177" y="927"/>
                    </a:cubicBezTo>
                    <a:cubicBezTo>
                      <a:pt x="1183" y="970"/>
                      <a:pt x="1186" y="995"/>
                      <a:pt x="1191" y="1031"/>
                    </a:cubicBezTo>
                    <a:cubicBezTo>
                      <a:pt x="1196" y="1068"/>
                      <a:pt x="1200" y="1123"/>
                      <a:pt x="1207" y="1149"/>
                    </a:cubicBezTo>
                    <a:cubicBezTo>
                      <a:pt x="1213" y="1175"/>
                      <a:pt x="1225" y="1178"/>
                      <a:pt x="1233" y="1187"/>
                    </a:cubicBezTo>
                    <a:cubicBezTo>
                      <a:pt x="1240" y="1195"/>
                      <a:pt x="1244" y="1195"/>
                      <a:pt x="1254" y="1200"/>
                    </a:cubicBezTo>
                    <a:cubicBezTo>
                      <a:pt x="1263" y="1205"/>
                      <a:pt x="1276" y="1215"/>
                      <a:pt x="1290" y="1219"/>
                    </a:cubicBezTo>
                    <a:cubicBezTo>
                      <a:pt x="1303" y="1222"/>
                      <a:pt x="1314" y="1219"/>
                      <a:pt x="1334" y="1219"/>
                    </a:cubicBezTo>
                    <a:cubicBezTo>
                      <a:pt x="1354" y="1219"/>
                      <a:pt x="1385" y="1218"/>
                      <a:pt x="1410" y="1219"/>
                    </a:cubicBezTo>
                    <a:cubicBezTo>
                      <a:pt x="1435" y="1220"/>
                      <a:pt x="1468" y="1225"/>
                      <a:pt x="1486" y="1226"/>
                    </a:cubicBezTo>
                    <a:cubicBezTo>
                      <a:pt x="1504" y="1227"/>
                      <a:pt x="1513" y="1226"/>
                      <a:pt x="1518" y="1226"/>
                    </a:cubicBezTo>
                  </a:path>
                </a:pathLst>
              </a:custGeom>
              <a:solidFill>
                <a:srgbClr val="969696">
                  <a:alpha val="26000"/>
                </a:srgbClr>
              </a:solidFill>
              <a:ln w="9360">
                <a:solidFill>
                  <a:srgbClr val="96969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anchor="t">
                <a:noAutofit/>
              </a:bodyPr>
              <a:p>
                <a:endParaRPr b="0" lang="en-US" sz="2400" spc="-1" strike="noStrike">
                  <a:solidFill>
                    <a:srgbClr val="000099"/>
                  </a:solidFill>
                  <a:latin typeface="Times New Roman"/>
                </a:endParaRPr>
              </a:p>
            </p:txBody>
          </p:sp>
        </p:grpSp>
        <p:sp>
          <p:nvSpPr>
            <p:cNvPr id="187" name=""/>
            <p:cNvSpPr/>
            <p:nvPr/>
          </p:nvSpPr>
          <p:spPr>
            <a:xfrm>
              <a:off x="909360" y="2476440"/>
              <a:ext cx="2174040" cy="44064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</a:t>
              </a:r>
              <a:r>
                <a:rPr b="0" lang="fr-FR" sz="2000" spc="-1" strike="noStrike" baseline="-25000">
                  <a:solidFill>
                    <a:srgbClr val="003399"/>
                  </a:solidFill>
                  <a:latin typeface="Symbol"/>
                  <a:ea typeface="Symbol"/>
                </a:rPr>
                <a:t></a:t>
              </a:r>
              <a:r>
                <a:rPr b="0" lang="fr-FR" sz="2000" spc="-1" strike="noStrike">
                  <a:solidFill>
                    <a:srgbClr val="003399"/>
                  </a:solidFill>
                  <a:latin typeface="Symbol"/>
                  <a:ea typeface="Symbol"/>
                </a:rPr>
                <a:t></a:t>
              </a:r>
              <a:r>
                <a:rPr b="0" lang="fr-FR" sz="2000" spc="-1" strike="noStrike">
                  <a:solidFill>
                    <a:srgbClr val="003399"/>
                  </a:solidFill>
                  <a:latin typeface="Comic Sans MS"/>
                </a:rPr>
                <a:t>SPL</a:t>
              </a:r>
              <a:endParaRPr b="0" lang="en-US" sz="20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060640" y="2894040"/>
              <a:ext cx="204840" cy="368280"/>
            </a:xfrm>
            <a:prstGeom prst="line">
              <a:avLst/>
            </a:prstGeom>
            <a:ln w="93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99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3732120" y="5749920"/>
            <a:ext cx="572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Require close position</a:t>
            </a: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90720" y="320760"/>
            <a:ext cx="81532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Comparison with other facilities</a:t>
            </a:r>
            <a:endParaRPr b="0" lang="en-US" sz="3200" spc="-1" strike="noStrike">
              <a:solidFill>
                <a:srgbClr val="003399"/>
              </a:solidFill>
              <a:latin typeface="Comic Sans MS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4545000" y="853920"/>
            <a:ext cx="4599000" cy="5605560"/>
          </a:xfrm>
          <a:prstGeom prst="rect">
            <a:avLst/>
          </a:prstGeom>
          <a:ln w="0">
            <a:noFill/>
          </a:ln>
        </p:spPr>
      </p:pic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157320" y="1027080"/>
            <a:ext cx="4157640" cy="46926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606680" y="5770440"/>
            <a:ext cx="328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M.M@NuFact05</a:t>
            </a:r>
            <a:endParaRPr b="0" lang="en-US" sz="2000" spc="-1" strike="noStrike">
              <a:solidFill>
                <a:srgbClr val="0000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00200" y="6105600"/>
            <a:ext cx="397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3399"/>
                </a:solidFill>
                <a:latin typeface="Comic Sans MS"/>
              </a:rPr>
              <a:t>Systematics…</a:t>
            </a:r>
            <a:endParaRPr b="0" lang="en-US" sz="3200" spc="-1" strike="noStrike">
              <a:solidFill>
                <a:srgbClr val="000099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18T19:04:34Z</dcterms:created>
  <dc:creator>cazes</dc:creator>
  <dc:description/>
  <dc:language>en-US</dc:language>
  <cp:lastModifiedBy>J.E Campagne</cp:lastModifiedBy>
  <dcterms:modified xsi:type="dcterms:W3CDTF">2005-09-26T09:43:36Z</dcterms:modified>
  <cp:revision>251</cp:revision>
  <dc:subject/>
  <dc:title>SPL-Fréjus optimisation. </dc:title>
</cp:coreProperties>
</file>